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AA2B-70FA-4A28-88A8-1D8E8A59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47F4-5A72-4B44-AB2B-B992B72B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E6B7-EB3A-44DA-8A4E-19AA4F33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C97A-A218-49FF-8A5E-0EF8155E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404C-B0C5-46EC-862F-6CDC2F8C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B7D0-05E5-4E24-ACB2-0D435699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8DD8-5F42-40D4-B785-73E2E077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B53A-CFB0-466A-9490-2F365D3A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4473-55B9-4E20-A365-D570B6AF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6C7A-5476-4FA2-B826-D980096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9AE1-3D60-4089-B6B6-5609818B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C5635-6B2B-4AB6-98A6-2895B959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64A6-55A8-441D-9A36-777E125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AF48-8A06-4419-B73D-305C050E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62D3-20B0-44E2-82C0-3A898086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DAEC-1972-47BC-8D3A-F7DF0E5C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BB4E-7712-4BD7-B348-8BE26F89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35F4-B44E-42F4-98D4-44FB6959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3B95-7A93-47AA-BB1C-79DA971B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5205-988F-48A9-ADFD-A6501378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685C-77AA-4DF5-A9F5-65B52D75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2E67-6ABF-44AC-8939-F2270496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37B8-1C4A-414F-BA32-2393E5C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17AA-2E0D-4E9B-98FF-DCAF23B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CCBA-D32D-4555-BAA5-6207C8360B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6BB3-6AFB-47DF-8980-272E749D6A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e5e5ff"/>
                </a:solidFill>
                <a:latin typeface="Garamond"/>
              </a:rPr>
              <a:t>No.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aramond"/>
              </a:rPr>
              <a:t>Prakarsa komite sekolah: karena merekalah yg merencanakan mendirikan gedung tersebu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aramond"/>
              </a:rPr>
              <a:t>Kepala Dinas Pendidikan Nasional Kabupaten: karena mereka yg akan meresmik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aramond"/>
              </a:rPr>
              <a:t>Kepala sekolah: Sebagai perwakilan dari sekol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aramond"/>
              </a:rPr>
              <a:t>Tolong tambahkan lagi yg belon-belon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e5e5ff"/>
                </a:solidFill>
                <a:latin typeface="Garamond"/>
              </a:rPr>
              <a:t>No.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Pembuka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Sambutan Kepala Sekol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Sambutan Prakarsa komite sekolah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Sambutan Kepala Dinas Pendidikan Nasional Kabupat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Sambutan *Tambahan dari slide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Peresmian gedung perpustakaan (dipimpin oleh Kepala Dinas Pendidikan Nasional Kabupate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Do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Penut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Tolong dibetulin kalo ada yg salah ya...♫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e5e5ff"/>
                </a:solidFill>
                <a:latin typeface="Garamond"/>
              </a:rPr>
              <a:t>No.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Pembuka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Sambutan dari Ketua 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Sambutan dari Penanggungjawab 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Sambutan dari Kepala Sekol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Pelantikan pengurus 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Do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Penut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Tolong dibenerin yang salah-salah ya...♫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e5e5ff"/>
                </a:solidFill>
                <a:latin typeface="Garamond"/>
              </a:rPr>
              <a:t>No. 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700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Pembu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ambutan perwakilan siswa kelas 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ambutan kepala sekol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Laporan ketua panit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D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Hibu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Penu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Tolong dibetulkan kalo ada yg salah..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8:10:51Z</dcterms:created>
  <dc:creator>User</dc:creator>
  <dc:description/>
  <dc:language>en-US</dc:language>
  <cp:lastModifiedBy>User</cp:lastModifiedBy>
  <dcterms:modified xsi:type="dcterms:W3CDTF">2010-01-11T12:39:45Z</dcterms:modified>
  <cp:revision>9</cp:revision>
  <dc:subject/>
  <dc:title>No. 4</dc:title>
</cp:coreProperties>
</file>