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3E02-DD60-4435-B93C-22AF8984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CB5A-3817-41B7-94B1-F4650EC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303D-8E57-43DD-B662-1C456887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4960-369B-4876-97E1-A59DD48F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3342-19F4-4A75-A29D-993C1F06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FD5-2854-436E-A695-1D01B4E2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B15-7BCC-4FFD-ABB7-964A59F5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47D-8191-4AA3-9E2B-F6A127B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8B0-93E2-4137-9CA6-E81FC49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1C94-8A9B-46B2-8A8C-D442395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16D6-4325-4D85-87B9-81A56CA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4E3C-C389-47E0-8695-1C81E44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659E-FA9B-4539-972A-53E3172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8CC-8897-4957-8AE2-EEA6B78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122-09AF-4224-B3A4-EECCAD3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CD1A-4C15-4C14-9167-FE5B8F75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E62B-07B9-445C-A036-2ED36532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FE5C-0380-4AEE-B3D9-92F4CC4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8881-FAEB-4FF7-8041-B8FC7030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A24E-1E4F-48F4-B465-41470574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E307-74C9-4B65-BC18-AD57767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83ED-9ABE-4A55-BFDD-9B1DA98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6B55-BDB5-4E98-8AEE-0D7D382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15CC-D352-485E-B751-A047F87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6B29-20C2-47C2-9439-456EEFFF0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0A1-6F7C-4DDA-97BA-7D14B21C5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Prakarsa komite sekolah: karena merekalah yg merencanakan mendirikan gedung terseb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Kepala Dinas Pendidikan Nasional Kabupaten: karena mereka yg akan meresmik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Kepala sekolah: Sebagai perwakilan dari sekol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aramond"/>
              </a:rPr>
              <a:t>Tolong tambahkan lagi yg belon-belon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mbuka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Kepala Sekol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Prakarsa komite sekola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Kepala Dinas Pendidikan Nasional Kabupat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Sambutan *Tambahan dari slide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resmian gedung perpustakaan (dipimpin oleh Kepala Dinas Pendidikan Nasional Kabupat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Do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Penut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aramond"/>
              </a:rPr>
              <a:t>Tolong dibetulin kalo ada yg salah ya...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mbuka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Ketua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Penanggungjawab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Sambutan dari Kepala Sekol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lantikan pengurus 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Do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Penut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Garamond"/>
              </a:rPr>
              <a:t>Tolong dibenerin yang salah-salah ya...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e5e5ff"/>
                </a:solidFill>
                <a:latin typeface="Garamond"/>
              </a:rPr>
              <a:t>No. 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00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mbu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ambutan perwakilan siswa kelas 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Sambutan kepala sekol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Laporan ketua panit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D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Hibu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Penu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olong dibetulkan kalo ada yg salah..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8:10:51Z</dcterms:created>
  <dc:creator>User</dc:creator>
  <dc:description/>
  <dc:language>en-US</dc:language>
  <cp:lastModifiedBy>User</cp:lastModifiedBy>
  <dcterms:modified xsi:type="dcterms:W3CDTF">2010-01-11T12:39:45Z</dcterms:modified>
  <cp:revision>9</cp:revision>
  <dc:subject/>
  <dc:title>No. 4</dc:title>
</cp:coreProperties>
</file>