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A57-8868-4F99-81D5-9ACB350E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870-BF7E-412C-B20B-95FBD35A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DFC-6A9C-4F0E-A768-5B69DD36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125-FC7A-4690-8D81-0175A70B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19C-A66B-41E4-AC66-B750BFD2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89E-8FDD-4F89-9C47-9B300291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897-5FAE-4D1F-891E-F4E0B8E2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065-DFE3-4BC4-AFAF-83BF5A28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9CC-2477-472A-9709-6596672A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0D6-7F18-49E5-8896-680A8D51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CA4-1D10-4AB4-BD91-281B73F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7FA-74A2-44EF-93E3-73F3323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CA1A-BC3F-40C2-9F1B-E935BABBF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8.jpeg"/><Relationship Id="rId6" Type="http://schemas.openxmlformats.org/officeDocument/2006/relationships/slide" Target="slide8.xml"/><Relationship Id="rId7" Type="http://schemas.openxmlformats.org/officeDocument/2006/relationships/image" Target="../media/image8.jpeg"/><Relationship Id="rId8" Type="http://schemas.openxmlformats.org/officeDocument/2006/relationships/slide" Target="slide10.xml"/><Relationship Id="rId9" Type="http://schemas.openxmlformats.org/officeDocument/2006/relationships/image" Target="../media/image8.jpeg"/><Relationship Id="rId10" Type="http://schemas.openxmlformats.org/officeDocument/2006/relationships/slide" Target="slide11.xml"/><Relationship Id="rId11" Type="http://schemas.openxmlformats.org/officeDocument/2006/relationships/image" Target="../media/image9.jpeg"/><Relationship Id="rId12" Type="http://schemas.openxmlformats.org/officeDocument/2006/relationships/hyperlink" Target="file:///../../&#1601;&#1607;&#1585;&#1587;%20&#1575;&#1604;&#1578;&#1585;&#1575;&#1606;&#1610;&#1605;.pps" TargetMode="External"/><Relationship Id="rId13" Type="http://schemas.openxmlformats.org/officeDocument/2006/relationships/image" Target="../media/image9.jpeg"/><Relationship Id="rId14" Type="http://schemas.openxmlformats.org/officeDocument/2006/relationships/slide" Target="slide2.xml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299700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لا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ز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 تشكر من قلبك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يسوعك العجيب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7200"/>
            </a:b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اللي قبلك و قالك</a:t>
            </a:r>
            <a:br>
              <a:rPr sz="7200"/>
            </a:b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إبني أيا حبي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5148360" y="1413000"/>
            <a:ext cx="3960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كل ما في الدن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5148360" y="2433600"/>
            <a:ext cx="396072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قاعد تفكر و تحس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5148360" y="3441600"/>
            <a:ext cx="396072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تعالي و ج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5148360" y="4437000"/>
            <a:ext cx="3960720" cy="70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لازم تشكر م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0" action="ppaction://hlinksldjump"/>
          </p:cNvPr>
          <p:cNvSpPr/>
          <p:nvPr/>
        </p:nvSpPr>
        <p:spPr>
          <a:xfrm>
            <a:off x="108000" y="1281240"/>
            <a:ext cx="446400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حبيبي يا يسوع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2">
            <a:hlinkClick r:id="rId12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Majalla UI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4" action="ppaction://hlinksldjump"/>
          </p:cNvPr>
          <p:cNvSpPr/>
          <p:nvPr/>
        </p:nvSpPr>
        <p:spPr>
          <a:xfrm>
            <a:off x="5148360" y="417600"/>
            <a:ext cx="3960720" cy="7077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يا خسارة الأيا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يا خسارة الأيام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اللي مرت من غيرك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يا ريت عرفتك زمان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وشبعت بخير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720" y="3077640"/>
            <a:ext cx="83520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07764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كل ما في الدنيا باطل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صيره للعذاب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هما تحاول وتجرب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يأبني كله سرا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00636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6720" y="2933280"/>
            <a:ext cx="8352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قاعد تفكر و تحسب           شايل هـم الايام                   مش عارف ان يسوعك               من أجلك مات و قا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300636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         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93328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تعالي وجرب إنك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تحكي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عاه بدموع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إرحمني يا مخلص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ريحني يا يسو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3077640"/>
            <a:ext cx="83520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04:24:23Z</dcterms:created>
  <dc:creator>Pastor Gaber Awad</dc:creator>
  <dc:description/>
  <dc:language>en-US</dc:language>
  <cp:lastModifiedBy>Sp2</cp:lastModifiedBy>
  <dcterms:modified xsi:type="dcterms:W3CDTF">2008-09-21T22:38:31Z</dcterms:modified>
  <cp:revision>46</cp:revision>
  <dc:subject/>
  <dc:title>بحلم بقلوبنا زهية   مليانـة أحقاد واحصـــــاد أنـــت ....وهـــــي    تزرع في الارض سلام والعالم يشهد لينــــا     ونرنم احلى كــــــلام ليسوع البر فادينا   خلا في قلوبنا ســـلام</dc:title>
</cp:coreProperties>
</file>