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C54-6715-4664-BDB3-C7F59485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1C6-A31D-4F01-9167-01AA4778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B28-7528-4D9E-8487-239121AC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657-D4E2-46B9-9721-2EAF6134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DFE-07EE-4FAC-95CD-A79E18F9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A10-A2C3-4BBC-86A5-BB290F4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BB2-00B3-4980-990B-0D18EE67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73E-68DD-4C96-9849-512B1E85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7CB-1A38-4FB9-BA5F-7EF3AE81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E3C-EDBC-434D-B70B-DE8C674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93C-11CD-4152-9528-AF442E9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11B-88F5-42BA-9DCC-E1AF0BB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88FD2-3C1D-483E-A4B0-C8B10256C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60E4E-10A2-43D2-B084-324937D37F6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39:30Z</dcterms:created>
  <dc:creator>최봉수</dc:creator>
  <dc:description/>
  <dc:language>en-US</dc:language>
  <cp:lastModifiedBy>군만두 맛있다</cp:lastModifiedBy>
  <dcterms:modified xsi:type="dcterms:W3CDTF">2023-07-12T04:07:07Z</dcterms:modified>
  <cp:revision>3</cp:revision>
  <dc:subject/>
  <dc:title>슬라이드 1</dc:title>
</cp:coreProperties>
</file>