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B6A-6E7D-43EE-B842-671D1DD8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83C-0CAD-464C-BE17-06F9C7E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804-D5F2-4679-A5E8-0DA07869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B60-A4EB-4052-912A-67FEE2BD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91D-AC01-4171-9811-6FEF870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D45-DE4C-48FD-A2F3-7386A819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17F-FBB1-46F9-A5D7-73C3FF82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AA7-0F29-4E2A-8E8A-E53AFFAB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D38-965C-4B01-BFC1-02BB3933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F17-5A20-4D54-8F4C-81F2C9D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BC0-5E73-470F-8338-D75CE66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0F2-805A-42A7-8580-F41E14E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8ADA9-A19C-4FF2-A9A9-7C5360C27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70604-915E-4291-BE2B-910DE29AF3A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39:30Z</dcterms:created>
  <dc:creator>최봉수</dc:creator>
  <dc:description/>
  <dc:language>en-US</dc:language>
  <cp:lastModifiedBy>군만두 맛있다</cp:lastModifiedBy>
  <dcterms:modified xsi:type="dcterms:W3CDTF">2023-07-12T04:07:07Z</dcterms:modified>
  <cp:revision>3</cp:revision>
  <dc:subject/>
  <dc:title>슬라이드 1</dc:title>
</cp:coreProperties>
</file>