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AF4-1AB8-4BE7-BD09-ED0F6925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9C1-83E8-4A9A-A403-9DFBEAA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0C4-C2FC-4165-8FCC-93FFA5F1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625-A181-4A0A-812C-272EDC5C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9B8-6C81-4F95-B76C-B1B7F84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00B-9C51-4E96-83E9-41F548A7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F8B-550C-4913-9BF5-F5BDA60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A2F-11C1-4308-90CA-79FF4EB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CB9-7628-4335-BFBB-E6342AAD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0D4-AA5A-4961-83AA-70D0413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992-F126-4002-9B2A-D3B7C7C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95D-E73A-422E-9805-E3791BEF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473ED-42C5-485B-80A5-1AB1549513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2"/>
          <a:srcRect l="0" t="0" r="1574" b="35958"/>
          <a:stretch/>
        </p:blipFill>
        <p:spPr>
          <a:xfrm>
            <a:off x="1055520" y="309600"/>
            <a:ext cx="1008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4:44:57Z</dcterms:created>
  <dc:creator>최봉수</dc:creator>
  <dc:description/>
  <dc:language>en-US</dc:language>
  <cp:lastModifiedBy>맛있다 군만두</cp:lastModifiedBy>
  <dcterms:modified xsi:type="dcterms:W3CDTF">2024-10-01T02:45:55Z</dcterms:modified>
  <cp:revision>14</cp:revision>
  <dc:subject/>
  <dc:title>슬라이드 1</dc:title>
</cp:coreProperties>
</file>