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3F5-4CAB-45EB-A6F1-0FD44DB2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262-ADB3-499A-8EBF-1BB91940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A50-A4D3-40D0-9920-2A72CACA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DFA-E386-4224-AF31-836A2853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1AA-1B6E-4A56-B8FB-A1A93FD6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A52-F562-4C65-BED9-694246D0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AFF-1529-441C-BB28-3A18F3EB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B7E-1132-415B-9403-F277F280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65D-B8B0-4866-B814-0289B818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2F3-F530-44F6-AAEF-EF2118DA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601-F853-47E0-9CD7-357BDC1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BCE-8509-41CB-BC6B-9E18BC72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74BA2-7AD8-469A-9D33-E795021A32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"/>
          <p:cNvPicPr/>
          <p:nvPr/>
        </p:nvPicPr>
        <p:blipFill>
          <a:blip r:embed="rId2"/>
          <a:srcRect l="0" t="0" r="1574" b="35958"/>
          <a:stretch/>
        </p:blipFill>
        <p:spPr>
          <a:xfrm>
            <a:off x="1055520" y="309600"/>
            <a:ext cx="10080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4:44:57Z</dcterms:created>
  <dc:creator>최봉수</dc:creator>
  <dc:description/>
  <dc:language>en-US</dc:language>
  <cp:lastModifiedBy>맛있다 군만두</cp:lastModifiedBy>
  <dcterms:modified xsi:type="dcterms:W3CDTF">2024-10-01T02:45:55Z</dcterms:modified>
  <cp:revision>14</cp:revision>
  <dc:subject/>
  <dc:title>슬라이드 1</dc:title>
</cp:coreProperties>
</file>