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1EB-721C-4D3E-A965-ABB9454F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315-ABA7-4FBE-8177-9F269E3C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44C-36F7-4C98-BE69-E1865F6D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54B-0568-4B06-85B7-916CBAB3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B7D0-C0EA-4CA6-AA8A-F537FE6D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8266-157E-45D1-9BB4-7A1A16EF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9485-9181-42E5-A13B-4ECBEDC5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332A-CEC1-45B5-A48D-5349C485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388A-1F25-4BEF-BAC4-3375E3BA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B457-146A-4A74-BC79-6A61631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D62D-E860-4212-A900-030DEA04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E5F-1537-42DE-B846-97D94356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7BB9-09CA-4441-B12D-8B9E0DC3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5AFE-08E1-4F02-8A73-E41996E1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CE9B-B4D0-4BD9-BED6-BA09AE88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6444-0E67-4E2B-8CD5-70617488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F98D-5B11-48BE-9787-52FBD4A1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312-2FC8-40DC-B972-0E941A28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95E-4F61-4C6C-8D41-DAB6E09B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A80-C3FA-4EF0-BCA3-1EC8C587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1F7-2A9C-4A16-A7A4-B3CDEE1B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C18-E915-4C9F-8EEC-7AD7D646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C19-2CE3-4C9B-AD61-BB527BA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AEF-7DA5-4E30-9F05-C0B2199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3BCD-136B-4F35-9C32-012C67B08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05E0-537C-444C-B8AC-5A0521CE5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courtemanche@galenaparkisd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0" y="21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Camera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ure Triangle: IS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905120" y="4266720"/>
            <a:ext cx="5867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ity to Light: Get it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5105520"/>
            <a:ext cx="37339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J. Courtemanche, CJE  </a:t>
            </a:r>
            <a:r>
              <a:rPr b="0" lang="en-US" sz="1200" spc="-1" strike="noStrike" u="sng">
                <a:solidFill>
                  <a:srgbClr val="d4876c"/>
                </a:solidFill>
                <a:uFillTx/>
                <a:latin typeface="Arial"/>
                <a:hlinkClick r:id="rId1"/>
              </a:rPr>
              <a:t>rcourtemanche@galenaparkisd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ena Park HS, Tex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 for use granted for any classroom teacher in a public or not-for profit / non-profit schoo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S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or situations have less light, so they call for a higher ISO number - usually 400, but you might need mo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S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er indoor and outdoor situations have even less light, so they call for a very high ISO number - 800, 1600 or 3200.  But as the ISO number goes up, so does the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5800" y="3332160"/>
            <a:ext cx="38098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ur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tograph is made up of three elements to make an exposure (pict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I x T x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5800" y="255276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ur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I x T x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= Intensity x Time x Sensi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5800" y="255276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ur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I x T x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 Picture = (I)Aperture x (T)Shutter Opening x (S)I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5800" y="255276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is the amount of sensitivity the image sensor (CCD or CMOS) in your camera has to light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5800" y="2732040"/>
            <a:ext cx="38098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ISO is a hold-over from the days of film cameras when film was rated for its sensitivity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S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cameras 200 is the default outdoor ISO for bright sunny day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2517840"/>
            <a:ext cx="38098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S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many cameras work best at ISO 100 for bright sunlight.  You will need to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5800" y="2517840"/>
            <a:ext cx="38098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S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ameras have settings less than 100, such as 80 or 50.  Save these for the brightest of conditions, such as a beach or s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5800" y="276876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GPHS JOURNALISM</cp:lastModifiedBy>
  <cp:lastPrinted>1904-01-01T00:00:00Z</cp:lastPrinted>
  <dcterms:modified xsi:type="dcterms:W3CDTF">2010-07-08T05:03:35Z</dcterms:modified>
  <cp:revision>10</cp:revision>
  <dc:subject/>
  <dc:title>PowerPoint Presentation</dc:title>
</cp:coreProperties>
</file>