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A40-23E7-47D9-BA60-4C24BE89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EAB-836B-45C6-9565-9AA611EB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DD4-C80A-4D40-998B-408E0445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979-6827-4F8A-849B-38FA0CF8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2956-43BC-4C7D-A517-3FA4A43A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915-5047-47DD-AFC1-60475D7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B947-ED5B-442D-A5F1-447C56FF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FC97-F2DE-4D04-8A92-CE4B218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3F6-0BD8-4C44-A3E5-1D4EC8A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F966-15A7-4FA1-ABA4-7CCD178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4B2-5560-460C-B698-FE8F356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703-D512-49D3-B8F2-E724923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5043-9413-4E08-9AC9-D5A5732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5FC7-FD61-44DA-A860-57611A9E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32FC-3FE3-4742-9373-243F9175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FBEA-7C97-49F3-A5CD-12DD53A4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E19A-442A-4EA2-9DFA-6D437B5A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C97-B30A-4A9C-A913-2A50EB6E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086-D1F3-47DD-B61A-771B52E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F72-4277-461D-864A-6B32454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AEB-2C33-48F2-9613-B02F0601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F3C-0A72-4139-B3C8-06170D8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6D9-02B7-4F00-A9FF-AAB3ACD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C9C-A091-4E9E-A06F-F379321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2F61-EB77-4A2A-BB67-79DDF48DC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64CE-4B79-4831-9075-7690B8656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courtemanche@galenaparkisd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21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Camera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: IS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905120" y="4266720"/>
            <a:ext cx="5867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to Light: Get it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5105520"/>
            <a:ext cx="37339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J. Courtemanche, CJE  </a:t>
            </a:r>
            <a:r>
              <a:rPr b="0" lang="en-US" sz="1200" spc="-1" strike="noStrike" u="sng">
                <a:solidFill>
                  <a:srgbClr val="d4876c"/>
                </a:solidFill>
                <a:uFillTx/>
                <a:latin typeface="Arial"/>
                <a:hlinkClick r:id="rId1"/>
              </a:rPr>
              <a:t>rcourtemanche@galenaparkisd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ena Park HS, Tex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for use granted for any classroom teacher in a public or not-for profit / non-profit schoo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or situations have less light, so they call for a higher ISO number - usually 400, but you might need mo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er indoor and outdoor situations have even less light, so they call for a very high ISO number - 800, 1600 or 3200.  But as the ISO number goes up, so does the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" y="3332160"/>
            <a:ext cx="38098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tograph is made up of three elements to make an exposure (pic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I x T x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I x T x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= Intensity x Time x Sensi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I x T x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Picture = (I)Aperture x (T)Shutter Opening x (S)I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is the amount of sensitivity the image sensor (CCD or CMOS) in your camera has to light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5800" y="2732040"/>
            <a:ext cx="38098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ISO is a hold-over from the days of film cameras when film was rated for its sensitivity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cameras 200 is the default outdoor ISO for bright sunny day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517840"/>
            <a:ext cx="38098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any cameras work best at ISO 100 for bright sunlight.  You will need to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5800" y="2517840"/>
            <a:ext cx="38098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meras have settings less than 100, such as 80 or 50.  Save these for the brightest of conditions, such as a beach or s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GPHS JOURNALISM</cp:lastModifiedBy>
  <cp:lastPrinted>1904-01-01T00:00:00Z</cp:lastPrinted>
  <dcterms:modified xsi:type="dcterms:W3CDTF">2010-07-08T05:03:35Z</dcterms:modified>
  <cp:revision>10</cp:revision>
  <dc:subject/>
  <dc:title>PowerPoint Presentation</dc:title>
</cp:coreProperties>
</file>