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8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35.png" ContentType="image/png"/>
  <Override PartName="/ppt/media/image7.png" ContentType="image/png"/>
  <Override PartName="/ppt/media/image34.jpeg" ContentType="image/jpeg"/>
  <Override PartName="/ppt/media/image9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6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EB9E-99C5-45CD-9ADE-5ACC52840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A330-FF38-4878-A0C8-1E0B325C6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BF85-9C24-402D-BD9A-18EF4302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72B3-C7CA-422E-B74D-AEDF13778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7119-706F-402A-88E6-3048DD13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3088-280A-41F0-916A-8776BF3A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EE86-B76F-4ED7-8098-DE2BC2B6F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A325-C1A2-40F0-B5B1-DD91E1DE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CD8C-F84D-4022-BD56-F205AB638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A3A9-910B-4964-B09F-CB10B54A6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3A2F-1B7E-4594-B0FD-FA0D0C053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D610-7912-43CD-9D75-7F4B32A7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8947-5C63-4582-BAD0-EF73598B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C9E5-3911-441C-96F0-293AB210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031-D27E-48BD-8120-A7923B71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0B9-2BDA-4F0C-BE44-42CF902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FEB6B-2616-4731-88C3-D944A36F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D9B67-5D3B-48A2-A505-1D5DACC2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B800A-DDA5-48FA-9F3D-5709E830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2670F-F365-4CCA-B27D-7A681957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552BE-F693-43A5-BBAF-BFDA3E69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7FED1-5319-4A35-A8BC-40EEDF5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EC9A8-CC67-440C-B8B0-02725319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19D93-20F3-44C8-B1D8-46897A6F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31953-97CB-4BC0-B1AE-60553095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145-DE2E-468D-9F16-61C90A84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1A8-4AB6-4226-AA34-F98AB04A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AB24-A45C-4529-84E6-DC8E109A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8B9C-9071-45B3-9406-0E50EED8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A56A-E707-4771-A8E4-F11D1EB1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3440-9B0D-442B-BFDD-63C7FCF1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B7C5-998A-4FB6-A61C-03C7246B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7703-90C7-4B76-99F4-D13065E7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02B4-E2AC-41DB-8D7D-51D1D6D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B25-0E6F-45E0-8048-4BB1A451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B8AF-8963-4C52-8218-B77329A7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739C-4A2D-4906-9254-F90EFB6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CA46-9A13-4085-8636-90EB5E04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A163-9A2A-49AD-842F-C0974831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7C9-1BEE-475E-87A8-1FAE1B62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76CE-6928-4FEF-90A4-FB9F0D4D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5FCE-A9C4-4D8A-9AE0-B486A689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0B54-0F96-461B-86F3-45DF5A32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9B9F-C239-4414-8664-F3CB2730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1F69-414A-4B5B-8737-5E0C3FD2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213-9532-4F59-ADD9-733AA6EA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2FE6-9878-46BC-9909-6EC6F5B4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AA4E-9235-4521-8FF3-F0BA107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BCCF-DAE0-437F-8C90-35670570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E84C-C590-49C2-97B1-0F2E4B8D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5CB4-678A-4740-B9FF-271E19BB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8BBD-06E3-469B-8E97-97D4A056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8C3A-98ED-449C-9D63-72723820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41DE-B865-49FD-B1FA-6D9127E2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7689-985F-436D-885D-199CE7E9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0387-2295-4546-9659-BB6CC6FA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C21-5607-4BFF-B66F-C742DA41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8226-9E13-4178-8F39-985B6C26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D97F2-3760-4071-9E7F-02C739CC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99E9-DB3A-4DC0-90EB-44734E9A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EDA8-EBAD-4FD4-AFDB-4600BEF0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B9E7-86B7-4B91-B003-06C26DB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91904-4B62-4BA6-885C-982483D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7C6F-76DC-46FF-8FAF-0F7BF514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9AF6-5391-43A0-AEC9-D41A3B04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B9CA-1021-4AC3-9701-4AAF5979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E485D-B5EF-4E81-AD2B-D325385D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47E-2692-4B55-AA9F-78E4A3C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777E-D803-4A3A-B8CF-E7F641B6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69F9-C94A-4B2F-B0EA-29F7B1DA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57D1-B87D-42C7-B328-23BE737B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DDBC-CF4C-483C-936B-27A0102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3D55-B688-44A6-BE1C-54E62795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43EB-3076-48AB-8471-F0245E74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E869-3592-42F1-A333-E1A6D68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13654-D96B-4438-9AB5-35BC47C3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CF72-6596-44C3-A72A-86CF6987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8F24-FE1D-469A-AF1E-199438D7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63E-DEAA-44C1-A967-2D7C2D58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6D80B-ACA7-4B08-B564-0D18FF20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FAD7-B6D7-4A7A-80AD-D81730D5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4CFC5-8CFD-4905-A2B7-A6FA0D3D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6EBD5-DD51-4B5B-BA3A-ADF219F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6DE6-2456-4C02-9685-A1B8ED92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36167-0CAE-47C2-9F78-136D7D45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D8D7E-B73A-4655-86B0-5ACC5D1F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4CD52-B3DD-4622-A1C0-BBE4B80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0AD7D-418E-4AAC-9733-8BB385A5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309D-60AE-46F0-A451-EF499238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B84-057B-447F-8D72-D631C49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B73BC-DE29-4F7C-B970-8CD40D2A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AFA04-7383-4A32-8241-F7001E7C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4891D-1E02-4C97-9A94-2D35C770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922D7-13B4-4A65-89A4-245AE9C1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1C131-BA35-475B-8569-7A9194D6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68976-BA8D-4047-BC68-E6231B0D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0060-F747-474C-9933-0068F718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74BA9-240D-4E7B-8938-C6EB92A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40DF-9EDC-49A3-ABD3-1A0333AD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3CFB-0F3F-41F0-871C-2E15F6D1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C34-3801-4B1D-B724-41909952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73A87-EEBB-49B0-9528-01AC81A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BE19E-944D-42A5-A0B9-4BF5DE6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FF898-C0A1-4B82-B0F7-B15114D6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10300-CB99-437F-89EA-F3D146FE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EC043-2EFD-48B2-AE6F-E346C3E8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B7612-018D-4AC0-945B-BA7159E2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43C72-DBF8-4BC3-A89A-3C37FF7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0A655-8462-4AF5-9115-743E4A7D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26CFE-2E46-4580-8981-678E40F6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212CC-58C4-46C9-8BC3-800010DD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949-7ADE-4995-B1D8-FFF4016F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D89BB-43C3-444B-86D8-1E14B6EB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E8566-7904-4755-BD4B-6A102CB5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5F01A-5F67-40D9-B831-D2E5607E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8AB7D-E0D2-4E19-BDFD-4B0BDAA0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A31F5-8468-4D9C-83DB-21AA044D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CF28-0AA4-47AA-A225-6376F39B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A01F4-B3BB-4ACF-8321-8FB61E37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E62FE-03A3-43E7-8F1E-0D1C00CC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146C7-026A-4778-A7BF-942E095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35EC9-385C-420F-9C08-6A8AAE59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975B-0507-4860-B8FD-15585DC5DC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B6F0-60A0-4EAE-88D2-09CFB0E8F9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AC16-6A37-4052-9638-55BB0FCFF1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D70E-B29B-4F4F-86BF-18DD8C7054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DCC-9EAD-46ED-859D-0828813482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A6C4-666D-4CFF-96AA-4E8F823E46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D305-5195-4E92-8F7A-9A217616C3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C65B-84D0-4289-B674-1E32156120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EE57-B97B-475C-B045-D971FE9263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2.bp.blogspot.com/_AbwfyBlcXNA/Smaz0gF3cQI/AAAAAAAAAA4/5WG-ndlKgQ0/s400/kapak+perimbas+copy.jp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55440" y="1444680"/>
            <a:ext cx="8880480" cy="21636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leh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Picture 10" descr="Lukisan-Gua-Prasejarah-Sebuah-Simbol-Kehidupan-Manusia-Pada-zaman-Prasejarah15"/>
          <p:cNvPicPr/>
          <p:nvPr/>
        </p:nvPicPr>
        <p:blipFill>
          <a:blip r:embed="rId2"/>
          <a:stretch/>
        </p:blipFill>
        <p:spPr>
          <a:xfrm>
            <a:off x="4800600" y="1447920"/>
            <a:ext cx="3733920" cy="51051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1" descr="Gambar-4"/>
          <p:cNvPicPr/>
          <p:nvPr/>
        </p:nvPicPr>
        <p:blipFill>
          <a:blip r:embed="rId3"/>
          <a:stretch/>
        </p:blipFill>
        <p:spPr>
          <a:xfrm>
            <a:off x="533520" y="1600200"/>
            <a:ext cx="3552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Ditandai dengan bangunan-banguna besar yang digunakan untuk pemujaan atau ritual lainny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Contoh : kubur batu, sarkofagus, menhir, dolmen, punden berundak dl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61440" cy="761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gambar-peninggalan-zaman-megalithikum"/>
          <p:cNvPicPr/>
          <p:nvPr/>
        </p:nvPicPr>
        <p:blipFill>
          <a:blip r:embed="rId2"/>
          <a:stretch/>
        </p:blipFill>
        <p:spPr>
          <a:xfrm>
            <a:off x="1523880" y="266688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Ciri-ciri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Pada masa perundagian, manusia mulai mengenal teknologi pertukangan dan telah mampu mengolah log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Pada masa ini, telah dikenal sistem barter. Sistem ini berkembang pada awalnya untuk mendapatkan timah putih, bahan utama pembuatan alat-alat loga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Alat-alat yang dihasilkan pada masa ini ialah nekara, bejana, dan arca-arca serta manik-manik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91680" cy="847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dongson2"/>
          <p:cNvPicPr/>
          <p:nvPr/>
        </p:nvPicPr>
        <p:blipFill>
          <a:blip r:embed="rId2"/>
          <a:stretch/>
        </p:blipFill>
        <p:spPr>
          <a:xfrm>
            <a:off x="685800" y="99072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474" name="Oval 6"/>
          <p:cNvSpPr/>
          <p:nvPr/>
        </p:nvSpPr>
        <p:spPr>
          <a:xfrm>
            <a:off x="685800" y="3657600"/>
            <a:ext cx="2514600" cy="4572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k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7" descr="Patung-Perunggu-Peninggalan-Kebudayaan-Zaman-Perundagian3"/>
          <p:cNvPicPr/>
          <p:nvPr/>
        </p:nvPicPr>
        <p:blipFill>
          <a:blip r:embed="rId3"/>
          <a:stretch/>
        </p:blipFill>
        <p:spPr>
          <a:xfrm>
            <a:off x="4572000" y="914400"/>
            <a:ext cx="3581280" cy="2743200"/>
          </a:xfrm>
          <a:prstGeom prst="rect">
            <a:avLst/>
          </a:prstGeom>
          <a:ln w="0">
            <a:noFill/>
          </a:ln>
        </p:spPr>
      </p:pic>
      <p:sp>
        <p:nvSpPr>
          <p:cNvPr id="476" name="Oval 8"/>
          <p:cNvSpPr/>
          <p:nvPr/>
        </p:nvSpPr>
        <p:spPr>
          <a:xfrm>
            <a:off x="4800600" y="3657600"/>
            <a:ext cx="2666880" cy="60948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ung-patu perung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9" descr="Gambar-4"/>
          <p:cNvPicPr/>
          <p:nvPr/>
        </p:nvPicPr>
        <p:blipFill>
          <a:blip r:embed="rId4"/>
          <a:stretch/>
        </p:blipFill>
        <p:spPr>
          <a:xfrm>
            <a:off x="762120" y="4495680"/>
            <a:ext cx="2666880" cy="18036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no-189-manik-manik"/>
          <p:cNvPicPr/>
          <p:nvPr/>
        </p:nvPicPr>
        <p:blipFill>
          <a:blip r:embed="rId5"/>
          <a:stretch/>
        </p:blipFill>
        <p:spPr>
          <a:xfrm>
            <a:off x="2895480" y="457200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479" name="Oval 12"/>
          <p:cNvSpPr/>
          <p:nvPr/>
        </p:nvSpPr>
        <p:spPr>
          <a:xfrm>
            <a:off x="5715000" y="5105520"/>
            <a:ext cx="1905120" cy="6858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ik-ma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C:\Users\EPL\Desktop\220px-COLLECTIE_TROPENMUSEUM_Studioportret_van_Dr._J.L.A._Brandes_TMnr_10018606.jpg"/>
          <p:cNvPicPr/>
          <p:nvPr/>
        </p:nvPicPr>
        <p:blipFill>
          <a:blip r:embed="rId2"/>
          <a:stretch/>
        </p:blipFill>
        <p:spPr>
          <a:xfrm>
            <a:off x="1219320" y="76212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Menurut Brandes :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Kemampuan berlayar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52240" indent="-203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Menggunakan perahu bercadik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Kemampuan bersawah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52240" indent="-203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Sistem irigasi dan pembuatan waduk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Sistem astronomi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52240" indent="-203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Penggunakaan rasi bintang untuk menunjukkan arah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52240" indent="-203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Teknologi angin musim untuk aktivitas pelayara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Sistem ekonomi yakni barter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(pertukaran barang)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Sistem mancapa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Pengaturan tata letak bangunan (menganut sistem  lingkaran konsentris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Kesenian 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Seni waya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Seni gamela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Seni membatik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Sistem kepercayaan 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Animisme : pemujaan terhadap roh nenek moya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Dinamisme : kepercayaan terhadap benda-bend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Sistem politik dengan pengangkatan kepala suku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87" name="Picture 4" descr="perahu-bercadik-borobudur"/>
          <p:cNvPicPr/>
          <p:nvPr/>
        </p:nvPicPr>
        <p:blipFill>
          <a:blip r:embed="rId1"/>
          <a:stretch/>
        </p:blipFill>
        <p:spPr>
          <a:xfrm>
            <a:off x="457200" y="228600"/>
            <a:ext cx="4114800" cy="29764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guntung"/>
          <p:cNvPicPr/>
          <p:nvPr/>
        </p:nvPicPr>
        <p:blipFill>
          <a:blip r:embed="rId2"/>
          <a:stretch/>
        </p:blipFill>
        <p:spPr>
          <a:xfrm>
            <a:off x="5257800" y="304920"/>
            <a:ext cx="2933640" cy="2971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12"/>
          <p:cNvPicPr/>
          <p:nvPr/>
        </p:nvPicPr>
        <p:blipFill>
          <a:blip r:embed="rId3"/>
          <a:stretch/>
        </p:blipFill>
        <p:spPr>
          <a:xfrm>
            <a:off x="2666880" y="3276720"/>
            <a:ext cx="33339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700" spc="-1" strike="noStrike">
                <a:solidFill>
                  <a:srgbClr val="000000"/>
                </a:solidFill>
                <a:latin typeface="Lucida Sans Unicode"/>
              </a:rPr>
              <a:t>Kompetensi dasar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000000"/>
                </a:solidFill>
                <a:latin typeface="Tahoma"/>
                <a:ea typeface="Tahoma"/>
              </a:rPr>
              <a:t>Mengidentifikasi tradisi sejarah pada masyarakat sebelum mengenal tulisa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000000"/>
                </a:solidFill>
                <a:latin typeface="Tahoma"/>
                <a:ea typeface="Tahoma"/>
              </a:rPr>
              <a:t>Mendeskripsikan cara masyarakat yang belum mengenal tulisan mewariskan masa laluny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000000"/>
                </a:solidFill>
                <a:latin typeface="Tahoma"/>
                <a:ea typeface="Tahoma"/>
              </a:rPr>
              <a:t>Mengklasifikasikan jejak sejarah di dalam foklore, mitologi, legenda, upacara dan lagu dari berbagai daerah di Indones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000000"/>
                </a:solidFill>
                <a:latin typeface="Tahoma"/>
                <a:ea typeface="Tahoma"/>
              </a:rPr>
              <a:t>Mengidentifikasikan sejarah masyarakat masa aksara di berbagai daerah di Indones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Content Placeholder 3" descr=""/>
          <p:cNvPicPr/>
          <p:nvPr/>
        </p:nvPicPr>
        <p:blipFill>
          <a:blip r:embed="rId1"/>
          <a:stretch/>
        </p:blipFill>
        <p:spPr>
          <a:xfrm>
            <a:off x="390600" y="762120"/>
            <a:ext cx="83026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Masa Pra Aksara</a:t>
            </a: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 atau masa </a:t>
            </a:r>
            <a:r>
              <a:rPr b="0" i="1" lang="en-US" sz="2800" spc="-1" strike="noStrike">
                <a:solidFill>
                  <a:srgbClr val="000000"/>
                </a:solidFill>
                <a:latin typeface="High Tower Text"/>
              </a:rPr>
              <a:t>Pra sejarah</a:t>
            </a: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 adalah periode ketika masyarakat Indonesia masih berada dalam tahap kehidupan yang </a:t>
            </a: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sederhana</a:t>
            </a: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 dan </a:t>
            </a: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belum mengenal tulis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Jejak peninggalan </a:t>
            </a:r>
            <a:r>
              <a:rPr b="1" lang="id-ID" sz="2800" spc="-1" strike="noStrike">
                <a:solidFill>
                  <a:srgbClr val="000000"/>
                </a:solidFill>
                <a:latin typeface="High Tower Text"/>
              </a:rPr>
              <a:t> sejarahnya</a:t>
            </a: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Benda-benda : alat-alat dari batu, kayu, tulang, manik-manik, perhiasa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Tari-tarian dan lag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Bangunan-bangunan yang digunakan manusia pada masa pra aksar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5"/>
          <p:cNvSpPr/>
          <p:nvPr/>
        </p:nvSpPr>
        <p:spPr>
          <a:xfrm>
            <a:off x="3809880" y="30481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700" spc="-1" strike="noStrike">
                <a:solidFill>
                  <a:srgbClr val="ff0000"/>
                </a:solidFill>
                <a:latin typeface="High Tower Text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High Tower Text"/>
              </a:rPr>
              <a:t>Tradisi Manusia pada masa </a:t>
            </a:r>
            <a:r>
              <a:rPr b="1" i="1" lang="en-US" sz="2700" spc="-1" strike="noStrike">
                <a:solidFill>
                  <a:srgbClr val="ff0000"/>
                </a:solidFill>
                <a:latin typeface="High Tower Text"/>
              </a:rPr>
              <a:t>Nomaden</a:t>
            </a:r>
            <a:r>
              <a:rPr b="1" lang="en-US" sz="2700" spc="-1" strike="noStrike">
                <a:solidFill>
                  <a:srgbClr val="ff0000"/>
                </a:solidFill>
                <a:latin typeface="High Tower Text"/>
              </a:rPr>
              <a:t> (Hidup Berpindah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nusia yang hidup pada masa ini adalah jenis Pithecanthropu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ereka hidup berpindah-pindah sesuai keberadaan sumber makanan / berburu makan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food gathering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idup berkelompok sekitar 8-15 ora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Kebudayaan mereka disebut kebudayaan Ngandong (Ngawi, Jawa Timur) dan Pacitan (Pegunungan Sewu Pantai Selatan Jawa</a:t>
            </a: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8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4190760" cy="23050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6" name="Picture 4" descr="alat-serpih1"/>
          <p:cNvPicPr/>
          <p:nvPr/>
        </p:nvPicPr>
        <p:blipFill>
          <a:blip r:embed="rId2"/>
          <a:stretch/>
        </p:blipFill>
        <p:spPr>
          <a:xfrm>
            <a:off x="533520" y="304920"/>
            <a:ext cx="3352680" cy="2751120"/>
          </a:xfrm>
          <a:prstGeom prst="rect">
            <a:avLst/>
          </a:prstGeom>
          <a:ln w="0">
            <a:noFill/>
          </a:ln>
        </p:spPr>
      </p:pic>
      <p:sp>
        <p:nvSpPr>
          <p:cNvPr id="437" name="Oval 5"/>
          <p:cNvSpPr/>
          <p:nvPr/>
        </p:nvSpPr>
        <p:spPr>
          <a:xfrm>
            <a:off x="838080" y="3124080"/>
            <a:ext cx="2743200" cy="3812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t serp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6" descr="kapak perimbas copy"/>
          <p:cNvPicPr/>
          <p:nvPr/>
        </p:nvPicPr>
        <p:blipFill>
          <a:blip r:embed="rId3"/>
          <a:stretch/>
        </p:blipFill>
        <p:spPr>
          <a:xfrm>
            <a:off x="4572000" y="457200"/>
            <a:ext cx="3733920" cy="2674800"/>
          </a:xfrm>
          <a:prstGeom prst="rect">
            <a:avLst/>
          </a:prstGeom>
          <a:ln w="0">
            <a:noFill/>
          </a:ln>
        </p:spPr>
      </p:pic>
      <p:sp>
        <p:nvSpPr>
          <p:cNvPr id="439" name="Oval 9"/>
          <p:cNvSpPr/>
          <p:nvPr/>
        </p:nvSpPr>
        <p:spPr>
          <a:xfrm>
            <a:off x="5029200" y="3124080"/>
            <a:ext cx="2666880" cy="6098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ak perim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4876920" y="4800600"/>
            <a:ext cx="2514600" cy="7621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t-alat dari tul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088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igh Tower Text"/>
              </a:rPr>
              <a:t>Tradisi Manusia pada masa Semi perman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Pada masa ini manusia sudah mulai menetap di gua-gua yang disebut </a:t>
            </a:r>
            <a:r>
              <a:rPr b="0" i="1" lang="en-US" sz="2000" spc="-1" strike="noStrike">
                <a:solidFill>
                  <a:srgbClr val="000000"/>
                </a:solidFill>
                <a:latin typeface="Agency FB"/>
              </a:rPr>
              <a:t>abris sous roche</a:t>
            </a: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 dan adanya </a:t>
            </a:r>
            <a:r>
              <a:rPr b="0" i="1" lang="en-US" sz="2000" spc="-1" strike="noStrike">
                <a:solidFill>
                  <a:srgbClr val="000000"/>
                </a:solidFill>
                <a:latin typeface="Agency FB"/>
              </a:rPr>
              <a:t>kjokkenmodinger </a:t>
            </a: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(</a:t>
            </a:r>
            <a:r>
              <a:rPr b="0" lang="id-ID" sz="2000" spc="-1" strike="noStrike">
                <a:solidFill>
                  <a:srgbClr val="000000"/>
                </a:solidFill>
                <a:latin typeface="Agency FB"/>
              </a:rPr>
              <a:t>tumpukan </a:t>
            </a: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sampah kera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Alat-alat yang ditinggalkan : kapak genggam (pebble) digunakan untuk menggali ubi </a:t>
            </a:r>
            <a:br>
              <a:rPr sz="2400"/>
            </a:br>
            <a:r>
              <a:rPr b="0" lang="en-US" sz="2400" spc="-1" strike="noStrike" u="sng">
                <a:solidFill>
                  <a:srgbClr val="ff8119"/>
                </a:solidFill>
                <a:uFillTx/>
                <a:latin typeface="Agency FB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67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2600280" cy="2133720"/>
          </a:xfrm>
          <a:prstGeom prst="rect">
            <a:avLst/>
          </a:prstGeom>
          <a:ln w="0">
            <a:noFill/>
          </a:ln>
        </p:spPr>
      </p:pic>
      <p:sp>
        <p:nvSpPr>
          <p:cNvPr id="444" name="Oval 5"/>
          <p:cNvSpPr/>
          <p:nvPr/>
        </p:nvSpPr>
        <p:spPr>
          <a:xfrm>
            <a:off x="838080" y="6019920"/>
            <a:ext cx="2667240" cy="5331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ak geng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0" y="4495680"/>
            <a:ext cx="2914560" cy="1495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11_un_abri_sous_roche_juillet_2005"/>
          <p:cNvPicPr/>
          <p:nvPr/>
        </p:nvPicPr>
        <p:blipFill>
          <a:blip r:embed="rId4"/>
          <a:stretch/>
        </p:blipFill>
        <p:spPr>
          <a:xfrm>
            <a:off x="5029200" y="2438280"/>
            <a:ext cx="3587760" cy="2694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"/>
          <p:cNvPicPr/>
          <p:nvPr/>
        </p:nvPicPr>
        <p:blipFill>
          <a:blip r:embed="rId5"/>
          <a:stretch/>
        </p:blipFill>
        <p:spPr>
          <a:xfrm>
            <a:off x="4114800" y="4343400"/>
            <a:ext cx="2857680" cy="2133720"/>
          </a:xfrm>
          <a:prstGeom prst="rect">
            <a:avLst/>
          </a:prstGeom>
          <a:ln w="0">
            <a:noFill/>
          </a:ln>
        </p:spPr>
      </p:pic>
      <p:sp>
        <p:nvSpPr>
          <p:cNvPr id="448" name="Oval 9"/>
          <p:cNvSpPr/>
          <p:nvPr/>
        </p:nvSpPr>
        <p:spPr>
          <a:xfrm>
            <a:off x="3200400" y="2819520"/>
            <a:ext cx="2133720" cy="6858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ris sous r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0"/>
          <p:cNvSpPr/>
          <p:nvPr/>
        </p:nvSpPr>
        <p:spPr>
          <a:xfrm>
            <a:off x="6858000" y="5562720"/>
            <a:ext cx="2057400" cy="6858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jokkenmo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igh Tower Text"/>
              </a:rPr>
              <a:t>Tradisi Manusia pada masa meneta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ada masa ini, manusia purba sudah menguasai pengetahuan dan teknologi yang berkaitan dengan usaha pertania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Manusia sudah menetap di bangunan yang perman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Mereka juga sudah memiliki kemampuan mengadakan persediaan makanan </a:t>
            </a:r>
            <a:r>
              <a:rPr b="0" i="1" lang="en-US" sz="2400" spc="-1" strike="noStrike">
                <a:solidFill>
                  <a:srgbClr val="000000"/>
                </a:solidFill>
                <a:latin typeface="Agency FB"/>
              </a:rPr>
              <a:t>(food producing).</a:t>
            </a: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Ciri-ciri peninggalan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masa bercocok tanam ditandai dengan berkembangnya kemahiran 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mengasah alat-alat batu dan pembuatan gerabah</a:t>
            </a: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 (benda pecah-belah dari tanah liat yang dibaka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Alat yang diasah antara lain kapak lonjong, beliung persegi, mata panah, gerabah, dan perhiasan dari batu dan kerang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54" name="Picture 4" descr="gerabah"/>
          <p:cNvPicPr/>
          <p:nvPr/>
        </p:nvPicPr>
        <p:blipFill>
          <a:blip r:embed="rId1"/>
          <a:stretch/>
        </p:blipFill>
        <p:spPr>
          <a:xfrm>
            <a:off x="457200" y="380880"/>
            <a:ext cx="3048120" cy="2357640"/>
          </a:xfrm>
          <a:prstGeom prst="rect">
            <a:avLst/>
          </a:prstGeom>
          <a:ln w="0">
            <a:noFill/>
          </a:ln>
        </p:spPr>
      </p:pic>
      <p:sp>
        <p:nvSpPr>
          <p:cNvPr id="455" name="Oval 5"/>
          <p:cNvSpPr/>
          <p:nvPr/>
        </p:nvSpPr>
        <p:spPr>
          <a:xfrm>
            <a:off x="762120" y="2895480"/>
            <a:ext cx="2666880" cy="4572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b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zaman batu muda"/>
          <p:cNvPicPr/>
          <p:nvPr/>
        </p:nvPicPr>
        <p:blipFill>
          <a:blip r:embed="rId2"/>
          <a:stretch/>
        </p:blipFill>
        <p:spPr>
          <a:xfrm>
            <a:off x="3733920" y="304920"/>
            <a:ext cx="3533760" cy="2438280"/>
          </a:xfrm>
          <a:prstGeom prst="rect">
            <a:avLst/>
          </a:prstGeom>
          <a:ln w="0">
            <a:noFill/>
          </a:ln>
        </p:spPr>
      </p:pic>
      <p:sp>
        <p:nvSpPr>
          <p:cNvPr id="457" name="Oval 7"/>
          <p:cNvSpPr/>
          <p:nvPr/>
        </p:nvSpPr>
        <p:spPr>
          <a:xfrm>
            <a:off x="4114800" y="2895480"/>
            <a:ext cx="2895480" cy="5335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ak lonj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beliung-persegi1"/>
          <p:cNvPicPr/>
          <p:nvPr/>
        </p:nvPicPr>
        <p:blipFill>
          <a:blip r:embed="rId3"/>
          <a:stretch/>
        </p:blipFill>
        <p:spPr>
          <a:xfrm>
            <a:off x="609480" y="36576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459" name="Oval 9"/>
          <p:cNvSpPr/>
          <p:nvPr/>
        </p:nvSpPr>
        <p:spPr>
          <a:xfrm>
            <a:off x="990720" y="5791320"/>
            <a:ext cx="2361960" cy="5331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iung perse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1" descr="Mata-Panah"/>
          <p:cNvPicPr/>
          <p:nvPr/>
        </p:nvPicPr>
        <p:blipFill>
          <a:blip r:embed="rId4"/>
          <a:stretch/>
        </p:blipFill>
        <p:spPr>
          <a:xfrm>
            <a:off x="4114800" y="3733920"/>
            <a:ext cx="4038480" cy="1950840"/>
          </a:xfrm>
          <a:prstGeom prst="rect">
            <a:avLst/>
          </a:prstGeom>
          <a:ln w="0">
            <a:noFill/>
          </a:ln>
        </p:spPr>
      </p:pic>
      <p:sp>
        <p:nvSpPr>
          <p:cNvPr id="461" name="Oval 12"/>
          <p:cNvSpPr/>
          <p:nvPr/>
        </p:nvSpPr>
        <p:spPr>
          <a:xfrm>
            <a:off x="4495680" y="5791320"/>
            <a:ext cx="3124440" cy="4572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a pan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22:42:46Z</dcterms:created>
  <dc:creator>destaniar</dc:creator>
  <dc:description/>
  <dc:language>en-US</dc:language>
  <cp:lastModifiedBy>Windows Vista</cp:lastModifiedBy>
  <dcterms:modified xsi:type="dcterms:W3CDTF">2012-09-12T09:41:41Z</dcterms:modified>
  <cp:revision>22</cp:revision>
  <dc:subject/>
  <dc:title>Tradisi Masyarakat Indonesia Masa Pra Aksara</dc:title>
</cp:coreProperties>
</file>