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8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5.png" ContentType="image/png"/>
  <Override PartName="/ppt/media/image7.png" ContentType="image/png"/>
  <Override PartName="/ppt/media/image34.jpeg" ContentType="image/jpeg"/>
  <Override PartName="/ppt/media/image9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6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375-5C94-468F-9B49-5F1AD4B6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4C6-4CB2-4288-BC81-D248FF9C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71DA-018D-476E-A242-929098D6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ADB-3938-4260-95F6-E9AF020E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780-5674-4211-B32A-7DD009A14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F19-BB2D-4446-B7F2-A89AAE74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AB7-A2F3-4E06-8503-7AF1BB33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5F9F-4ABE-4F05-A96B-C8A6B03F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D1B1-C817-4E82-A8EC-E1A6E65D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4433-080E-43D2-AB1D-C2AC88AE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3C5-7F38-4ACF-8D1F-4C6F27F0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C67-5421-40D6-9DD7-D1DBDB6A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C108-9421-49A9-AD5B-98E3C259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A9E1-E4AD-4B43-97CF-C0339AB6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5FE-5BC6-44C0-9F94-D40DE2CE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DAC-5147-40D8-8E74-318BD18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44BB9-4826-49C1-9124-AC084BE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5B42-C23E-4444-9CBD-712BA3E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897E-7BED-4865-AE16-C6FE4359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D527-207D-4C9D-95F5-FD3A5CA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A9A7-012C-4CED-9787-E4A861D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7D2F-8295-4DBD-A0C1-2B92099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6D630-B89E-4722-B092-D22F822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0F8A1-3E89-4B3D-8ABB-3F2B95C0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5C1B-439B-47F8-A411-5929A2E0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701-CC19-4592-B994-138BCD5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2CA-F2E7-468A-8462-DAE3C81E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46BB-81D0-4545-8CF4-22DC2BC2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489-C239-4144-A9FF-9A06765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EB28-6CE8-456F-A822-782B4083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0735-417F-4DCC-B489-47D70C4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821B-25AE-40C1-8B66-39162745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D3C6-DC6F-4B64-8A2E-124BE81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4C9-06CF-42C8-9515-E9159C36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965-3E76-4C8D-880B-45FE0D92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F155-1DC0-4115-9ECD-ABB6125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B80-170F-4DE4-A192-0AE9EF2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FDAC-E2AD-402F-BA99-6A31A961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F151-3ECB-4115-8AB7-7B43B713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CBE9-5AF4-4727-BE37-A88CA25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6121-221C-41B1-A478-0D5C1FCB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6443-0178-422D-AD27-B2DB87F9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7980-9391-4054-9155-1F5DF855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B488-4989-4C80-9264-90AC56D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BA01-9830-4A41-87E0-06175A5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980-5A49-48B7-939C-DF1D0DF0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C846-13A6-4926-BC0B-A994E237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87F8-34DD-4EA6-8718-56B0D8CD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EB0D-6333-4AE6-93F3-7B4D51C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8E51-FCE1-423A-B0B2-E2A260C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CC33-BFBA-4D08-BBF0-59EE2A95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F94D-AE05-4A85-B800-01BA5B8E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63CD-BBB4-42C2-AC22-E805B9F2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E574-47FC-4AB5-A5F1-F263C354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C058-F702-4E45-977F-89128CC1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C7280-5B1F-43C8-BADA-F38FB83B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04B-69CF-4844-B511-D339B8F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66896-16CC-4C36-8023-A7AE0FE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40BC-04C4-4279-8263-409AF1C4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D4B6-B287-4889-B987-B42B84C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B73E-3871-4471-B489-FA06429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8780-6784-4758-BD1F-70A879C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7AEC-CD1D-4547-8276-FF7C4E8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1CB3-EAAC-4FD8-9F54-5F1E90B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4E91-E052-4D81-9E42-F90E008C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FA6D-E38C-4A69-9839-F20A576D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E759-BD1A-49D3-81D4-A3F9238E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EBE-2C7D-45F8-9ACB-0300552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4642-EC95-4079-A77D-822F98E2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2834-958C-4860-9133-0B5526B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6DC7-FC42-44B3-B2D3-6E29A022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7E74-97B7-41F8-91D6-C27AAC1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E1C77-11CF-43A5-B4D2-E5748A99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CA3A-CF32-4259-835D-0F6709B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C6F7-EE68-4BB7-B784-D2AEBA0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74D7-71D2-49D5-B0CC-BC49CBD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A451-2A91-456A-AA8B-BBF875B7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274E-EB62-4E1B-BA76-1811AAE0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194-10C7-4A15-A529-590E8EC1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10CE-642A-42EB-BA4C-8679AB21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68F4-357E-4A94-AA77-53C129F1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4AC34-3BF6-4429-9095-13E0B31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62BE-BCA8-425D-BE12-7999D182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5F2A-DF14-4D00-8C0B-7F960964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FD15B-4743-4CCF-84D5-750A155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0E04-B6A3-4D44-9751-8E55815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EC33-F47B-4849-8440-0D0557D0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B548-DFF7-4B88-B60E-C5893CD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A0DF-2424-4CBD-9C6F-7635965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AFB-81D3-4035-AA27-B8E56939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6CCC-B782-4900-921A-B9F468B0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15C1-4193-4510-9F46-19E291C6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0C89-42E7-44B3-A47F-A4623E7E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FB26-470B-46E3-A41F-135BA9ED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8B136-24A1-4B0F-A368-5BCFEA8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4C614-F14F-40C1-8611-872E388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82AA-5D74-4C44-9147-EF3673A5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BA3F-A73D-43A9-B896-E2C4ED8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1E02-1E75-4F4F-88D5-0C74499E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BC48-2234-4433-8BBE-161445C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86B-AEEA-4D85-BD8D-80685C5B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99B07-04D9-4D38-AF7A-84326E7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BE7D-3920-4897-828A-BE3F253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CAEEA-785E-44C2-8896-43626C8B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FCE8B-35BD-4251-A5F0-84DB6E2C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B1E08-4E07-4E0D-A2D6-E0F4EB7D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750F9-5323-461B-A22A-C0834CF4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895B-97A5-49E0-A1F7-19D13CF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3FF8-E749-4E73-A407-1D541812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C5C6-9954-4929-9246-ED57DD6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E4841-02B6-47E1-B58E-B8DC1D0C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E69-EBDA-4C00-9E5F-AB10513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7CA87-9D1E-40C1-ACAF-F34485B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8D66F-C792-4624-94C6-E584CD4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0F7B-2BC2-4D92-B880-8078E48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4FB2B-9961-4076-8EE3-577B09B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C9F7-37F9-4FB3-9945-C14C3AC8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BA2C8-AB09-43B2-80C5-548AB18E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07701-170D-48CF-BAB6-DFB76557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E86B7-C7DB-4694-AA0D-D0688717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390C3-6545-43DA-9460-11DA54BE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0BA19-7B33-4579-82D7-24A3F4D9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106-6D70-4A31-8503-1B3408F40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023D-104F-49B3-A6D3-1279313D58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1A2-A3F2-4CFF-9BEF-D10A43AC09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B03-7B9B-4A14-9200-F3143D2F3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3284-33C5-47AF-994F-46D872A02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5DF7-F1BC-4F7D-A34B-F0E9A03489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25B-9138-4C1B-9486-5ACAA185E7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301-DB89-4FF4-8135-986C613376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649F-6861-4B1F-9026-B67FB50695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2.bp.blogspot.com/_AbwfyBlcXNA/Smaz0gF3cQI/AAAAAAAAAA4/5WG-ndlKgQ0/s400/kapak+perimbas+copy.jp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55440" y="1444680"/>
            <a:ext cx="8880480" cy="2163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leh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Picture 10" descr="Lukisan-Gua-Prasejarah-Sebuah-Simbol-Kehidupan-Manusia-Pada-zaman-Prasejarah15"/>
          <p:cNvPicPr/>
          <p:nvPr/>
        </p:nvPicPr>
        <p:blipFill>
          <a:blip r:embed="rId2"/>
          <a:stretch/>
        </p:blipFill>
        <p:spPr>
          <a:xfrm>
            <a:off x="4800600" y="1447920"/>
            <a:ext cx="3733920" cy="51051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1" descr="Gambar-4"/>
          <p:cNvPicPr/>
          <p:nvPr/>
        </p:nvPicPr>
        <p:blipFill>
          <a:blip r:embed="rId3"/>
          <a:stretch/>
        </p:blipFill>
        <p:spPr>
          <a:xfrm>
            <a:off x="533520" y="1600200"/>
            <a:ext cx="3552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Ditandai dengan bangunan-banguna besar yang digunakan untuk pemujaan atau ritual lainny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ontoh : kubur batu, sarkofagus, menhir, dolmen, punden berundak d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61440" cy="761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gambar-peninggalan-zaman-megalithikum"/>
          <p:cNvPicPr/>
          <p:nvPr/>
        </p:nvPicPr>
        <p:blipFill>
          <a:blip r:embed="rId2"/>
          <a:stretch/>
        </p:blipFill>
        <p:spPr>
          <a:xfrm>
            <a:off x="1523880" y="26668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iri-ciri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Pada masa perundagian, manusia mulai mengenal teknologi pertukangan dan telah mampu mengolah log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Pada masa ini, telah dikenal sistem barter. Sistem ini berkembang pada awalnya untuk mendapatkan timah putih, bahan utama pembuatan alat-alat loga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Alat-alat yang dihasilkan pada masa ini ialah nekara, bejana, dan arca-arca serta manik-mani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91680" cy="847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dongson2"/>
          <p:cNvPicPr/>
          <p:nvPr/>
        </p:nvPicPr>
        <p:blipFill>
          <a:blip r:embed="rId2"/>
          <a:stretch/>
        </p:blipFill>
        <p:spPr>
          <a:xfrm>
            <a:off x="685800" y="9907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474" name="Oval 6"/>
          <p:cNvSpPr/>
          <p:nvPr/>
        </p:nvSpPr>
        <p:spPr>
          <a:xfrm>
            <a:off x="685800" y="3657600"/>
            <a:ext cx="251460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k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7" descr="Patung-Perunggu-Peninggalan-Kebudayaan-Zaman-Perundagian3"/>
          <p:cNvPicPr/>
          <p:nvPr/>
        </p:nvPicPr>
        <p:blipFill>
          <a:blip r:embed="rId3"/>
          <a:stretch/>
        </p:blipFill>
        <p:spPr>
          <a:xfrm>
            <a:off x="4572000" y="91440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476" name="Oval 8"/>
          <p:cNvSpPr/>
          <p:nvPr/>
        </p:nvSpPr>
        <p:spPr>
          <a:xfrm>
            <a:off x="4800600" y="3657600"/>
            <a:ext cx="2666880" cy="60948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ung-patu perung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9" descr="Gambar-4"/>
          <p:cNvPicPr/>
          <p:nvPr/>
        </p:nvPicPr>
        <p:blipFill>
          <a:blip r:embed="rId4"/>
          <a:stretch/>
        </p:blipFill>
        <p:spPr>
          <a:xfrm>
            <a:off x="762120" y="4495680"/>
            <a:ext cx="2666880" cy="1803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no-189-manik-manik"/>
          <p:cNvPicPr/>
          <p:nvPr/>
        </p:nvPicPr>
        <p:blipFill>
          <a:blip r:embed="rId5"/>
          <a:stretch/>
        </p:blipFill>
        <p:spPr>
          <a:xfrm>
            <a:off x="2895480" y="457200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479" name="Oval 12"/>
          <p:cNvSpPr/>
          <p:nvPr/>
        </p:nvSpPr>
        <p:spPr>
          <a:xfrm>
            <a:off x="5715000" y="5105520"/>
            <a:ext cx="190512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ik-ma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04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C:\Users\EPL\Desktop\220px-COLLECTIE_TROPENMUSEUM_Studioportret_van_Dr._J.L.A._Brandes_TMnr_10018606.jpg"/>
          <p:cNvPicPr/>
          <p:nvPr/>
        </p:nvPicPr>
        <p:blipFill>
          <a:blip r:embed="rId2"/>
          <a:stretch/>
        </p:blipFill>
        <p:spPr>
          <a:xfrm>
            <a:off x="1219320" y="76212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Menurut Brandes :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Kemampuan berlaya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Menggunakan perahu bercadik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Kemampuan bersawah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Sistem irigasi dan pembuatan waduk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Sistem astronom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Penggunakaan rasi bintang untuk menunjukkan arah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52240" indent="-203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Teknologi angin musim untuk aktivitas pelayara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</a:rPr>
              <a:t>Sistem ekonomi yakni barter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 (pertukaran barang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24720" indent="-227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istem mancapa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Pengaturan tata letak bangunan (menganut sistem  lingkaran konsentris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Kesenian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waya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gamela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eni membatik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Sistem kepercayaan 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Animisme : pemujaan terhadap roh nenek moya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577080" indent="-2124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ency FB"/>
              </a:rPr>
              <a:t>Dinamisme : kepercayaan terhadap benda-bend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gency FB"/>
              </a:rPr>
              <a:t>Sistem politik dengan pengangkatan kepala suku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87" name="Picture 4" descr="perahu-bercadik-borobudur"/>
          <p:cNvPicPr/>
          <p:nvPr/>
        </p:nvPicPr>
        <p:blipFill>
          <a:blip r:embed="rId1"/>
          <a:stretch/>
        </p:blipFill>
        <p:spPr>
          <a:xfrm>
            <a:off x="457200" y="228600"/>
            <a:ext cx="4114800" cy="2976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guntung"/>
          <p:cNvPicPr/>
          <p:nvPr/>
        </p:nvPicPr>
        <p:blipFill>
          <a:blip r:embed="rId2"/>
          <a:stretch/>
        </p:blipFill>
        <p:spPr>
          <a:xfrm>
            <a:off x="5257800" y="304920"/>
            <a:ext cx="2933640" cy="2971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12"/>
          <p:cNvPicPr/>
          <p:nvPr/>
        </p:nvPicPr>
        <p:blipFill>
          <a:blip r:embed="rId3"/>
          <a:stretch/>
        </p:blipFill>
        <p:spPr>
          <a:xfrm>
            <a:off x="2666880" y="3276720"/>
            <a:ext cx="33339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700" spc="-1" strike="noStrike">
                <a:solidFill>
                  <a:srgbClr val="000000"/>
                </a:solidFill>
                <a:latin typeface="Lucida Sans Unicode"/>
              </a:rPr>
              <a:t>Kompetensi dasar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identifikasi tradisi sejarah pada masyarakat sebelum mengenal tulisa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deskripsikan cara masyarakat yang belum mengenal tulisan mewariskan masa laluny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klasifikasikan jejak sejarah di dalam foklore, mitologi, legenda, upacara dan lagu dari berbagai daerah di Indones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300" spc="-1" strike="noStrike">
                <a:solidFill>
                  <a:srgbClr val="000000"/>
                </a:solidFill>
                <a:latin typeface="Tahoma"/>
                <a:ea typeface="Tahoma"/>
              </a:rPr>
              <a:t>Mengidentifikasikan sejarah masyarakat masa aksara di berbagai daerah di Indones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Content Placeholder 3" descr=""/>
          <p:cNvPicPr/>
          <p:nvPr/>
        </p:nvPicPr>
        <p:blipFill>
          <a:blip r:embed="rId1"/>
          <a:stretch/>
        </p:blipFill>
        <p:spPr>
          <a:xfrm>
            <a:off x="390600" y="762120"/>
            <a:ext cx="83026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Masa Pra Aksara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atau masa </a:t>
            </a:r>
            <a:r>
              <a:rPr b="0" i="1" lang="en-US" sz="2800" spc="-1" strike="noStrike">
                <a:solidFill>
                  <a:srgbClr val="000000"/>
                </a:solidFill>
                <a:latin typeface="High Tower Text"/>
              </a:rPr>
              <a:t>Pra sejarah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adalah periode ketika masyarakat Indonesia masih berada dalam tahap kehidupan yang 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sederhana</a:t>
            </a:r>
            <a:r>
              <a:rPr b="0" lang="en-US" sz="2800" spc="-1" strike="noStrike">
                <a:solidFill>
                  <a:srgbClr val="000000"/>
                </a:solidFill>
                <a:latin typeface="High Tower Text"/>
              </a:rPr>
              <a:t> dan 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belum mengenal tuli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Jejak peninggalan </a:t>
            </a:r>
            <a:r>
              <a:rPr b="1" lang="id-ID" sz="2800" spc="-1" strike="noStrike">
                <a:solidFill>
                  <a:srgbClr val="000000"/>
                </a:solidFill>
                <a:latin typeface="High Tower Text"/>
              </a:rPr>
              <a:t> sejarahnya</a:t>
            </a:r>
            <a:r>
              <a:rPr b="1" lang="en-US" sz="2800" spc="-1" strike="noStrike">
                <a:solidFill>
                  <a:srgbClr val="000000"/>
                </a:solidFill>
                <a:latin typeface="High Tower Tex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Benda-benda : alat-alat dari batu, kayu, tulang, manik-manik, perhiasa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Tari-tarian dan lag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igh Tower Text"/>
              </a:rPr>
              <a:t>Bangunan-bangunan yang digunakan manusia pada masa pra aksar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AutoShape 5"/>
          <p:cNvSpPr/>
          <p:nvPr/>
        </p:nvSpPr>
        <p:spPr>
          <a:xfrm>
            <a:off x="3809880" y="30481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700" spc="-1" strike="noStrike">
                <a:solidFill>
                  <a:srgbClr val="ff0000"/>
                </a:solidFill>
                <a:latin typeface="High Tower Text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High Tower Text"/>
              </a:rPr>
              <a:t>Tradisi Manusia pada masa </a:t>
            </a:r>
            <a:r>
              <a:rPr b="1" i="1" lang="en-US" sz="2700" spc="-1" strike="noStrike">
                <a:solidFill>
                  <a:srgbClr val="ff0000"/>
                </a:solidFill>
                <a:latin typeface="High Tower Text"/>
              </a:rPr>
              <a:t>Nomaden</a:t>
            </a:r>
            <a:r>
              <a:rPr b="1" lang="en-US" sz="2700" spc="-1" strike="noStrike">
                <a:solidFill>
                  <a:srgbClr val="ff0000"/>
                </a:solidFill>
                <a:latin typeface="High Tower Text"/>
              </a:rPr>
              <a:t> (Hidup Berpindah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nusia yang hidup pada masa ini adalah jenis Pithecanthropu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ereka hidup berpindah-pindah sesuai keberadaan sumber makanan / berburu makan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food gathering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idup berkelompok sekitar 8-15 ora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Kebudayaan mereka disebut kebudayaan Ngandong (Ngawi, Jawa Timur) dan Pacitan (Pegunungan Sewu Pantai Selatan Jawa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4190760" cy="2305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6" name="Picture 4" descr="alat-serpih1"/>
          <p:cNvPicPr/>
          <p:nvPr/>
        </p:nvPicPr>
        <p:blipFill>
          <a:blip r:embed="rId2"/>
          <a:stretch/>
        </p:blipFill>
        <p:spPr>
          <a:xfrm>
            <a:off x="533520" y="304920"/>
            <a:ext cx="3352680" cy="2751120"/>
          </a:xfrm>
          <a:prstGeom prst="rect">
            <a:avLst/>
          </a:prstGeom>
          <a:ln w="0">
            <a:noFill/>
          </a:ln>
        </p:spPr>
      </p:pic>
      <p:sp>
        <p:nvSpPr>
          <p:cNvPr id="437" name="Oval 5"/>
          <p:cNvSpPr/>
          <p:nvPr/>
        </p:nvSpPr>
        <p:spPr>
          <a:xfrm>
            <a:off x="838080" y="3124080"/>
            <a:ext cx="2743200" cy="3812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t serp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kapak perimbas copy"/>
          <p:cNvPicPr/>
          <p:nvPr/>
        </p:nvPicPr>
        <p:blipFill>
          <a:blip r:embed="rId3"/>
          <a:stretch/>
        </p:blipFill>
        <p:spPr>
          <a:xfrm>
            <a:off x="4572000" y="457200"/>
            <a:ext cx="3733920" cy="2674800"/>
          </a:xfrm>
          <a:prstGeom prst="rect">
            <a:avLst/>
          </a:prstGeom>
          <a:ln w="0">
            <a:noFill/>
          </a:ln>
        </p:spPr>
      </p:pic>
      <p:sp>
        <p:nvSpPr>
          <p:cNvPr id="439" name="Oval 9"/>
          <p:cNvSpPr/>
          <p:nvPr/>
        </p:nvSpPr>
        <p:spPr>
          <a:xfrm>
            <a:off x="5029200" y="3124080"/>
            <a:ext cx="2666880" cy="60984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perim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4876920" y="4800600"/>
            <a:ext cx="2514600" cy="7621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t-alat dari tu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088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igh Tower Text"/>
              </a:rPr>
              <a:t>Tradisi Manusia pada masa Semi perman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Pada masa ini manusia sudah mulai menetap di gua-gua yang disebut </a:t>
            </a:r>
            <a:r>
              <a:rPr b="0" i="1" lang="en-US" sz="2000" spc="-1" strike="noStrike">
                <a:solidFill>
                  <a:srgbClr val="000000"/>
                </a:solidFill>
                <a:latin typeface="Agency FB"/>
              </a:rPr>
              <a:t>abris sous roche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 dan adanya </a:t>
            </a:r>
            <a:r>
              <a:rPr b="0" i="1" lang="en-US" sz="2000" spc="-1" strike="noStrike">
                <a:solidFill>
                  <a:srgbClr val="000000"/>
                </a:solidFill>
                <a:latin typeface="Agency FB"/>
              </a:rPr>
              <a:t>kjokkenmodinger 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(</a:t>
            </a:r>
            <a:r>
              <a:rPr b="0" lang="id-ID" sz="2000" spc="-1" strike="noStrike">
                <a:solidFill>
                  <a:srgbClr val="000000"/>
                </a:solidFill>
                <a:latin typeface="Agency FB"/>
              </a:rPr>
              <a:t>tumpukan </a:t>
            </a: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sampah kera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ency FB"/>
              </a:rPr>
              <a:t>Alat-alat yang ditinggalkan : kapak genggam (pebble) digunakan untuk menggali ubi </a:t>
            </a:r>
            <a:br>
              <a:rPr sz="2400"/>
            </a:br>
            <a:r>
              <a:rPr b="0" lang="en-US" sz="2400" spc="-1" strike="noStrike" u="sng">
                <a:solidFill>
                  <a:srgbClr val="ff8119"/>
                </a:solidFill>
                <a:uFillTx/>
                <a:latin typeface="Agency FB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67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600280" cy="2133720"/>
          </a:xfrm>
          <a:prstGeom prst="rect">
            <a:avLst/>
          </a:prstGeom>
          <a:ln w="0">
            <a:noFill/>
          </a:ln>
        </p:spPr>
      </p:pic>
      <p:sp>
        <p:nvSpPr>
          <p:cNvPr id="444" name="Oval 5"/>
          <p:cNvSpPr/>
          <p:nvPr/>
        </p:nvSpPr>
        <p:spPr>
          <a:xfrm>
            <a:off x="838080" y="6019920"/>
            <a:ext cx="2667240" cy="5331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geng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0" y="4495680"/>
            <a:ext cx="2914560" cy="1495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11_un_abri_sous_roche_juillet_2005"/>
          <p:cNvPicPr/>
          <p:nvPr/>
        </p:nvPicPr>
        <p:blipFill>
          <a:blip r:embed="rId4"/>
          <a:stretch/>
        </p:blipFill>
        <p:spPr>
          <a:xfrm>
            <a:off x="5029200" y="2438280"/>
            <a:ext cx="3587760" cy="2694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"/>
          <p:cNvPicPr/>
          <p:nvPr/>
        </p:nvPicPr>
        <p:blipFill>
          <a:blip r:embed="rId5"/>
          <a:stretch/>
        </p:blipFill>
        <p:spPr>
          <a:xfrm>
            <a:off x="4114800" y="4343400"/>
            <a:ext cx="2857680" cy="2133720"/>
          </a:xfrm>
          <a:prstGeom prst="rect">
            <a:avLst/>
          </a:prstGeom>
          <a:ln w="0">
            <a:noFill/>
          </a:ln>
        </p:spPr>
      </p:pic>
      <p:sp>
        <p:nvSpPr>
          <p:cNvPr id="448" name="Oval 9"/>
          <p:cNvSpPr/>
          <p:nvPr/>
        </p:nvSpPr>
        <p:spPr>
          <a:xfrm>
            <a:off x="3200400" y="2819520"/>
            <a:ext cx="213372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ris sous r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0"/>
          <p:cNvSpPr/>
          <p:nvPr/>
        </p:nvSpPr>
        <p:spPr>
          <a:xfrm>
            <a:off x="6858000" y="5562720"/>
            <a:ext cx="2057400" cy="6858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jokkenmo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igh Tower Text"/>
              </a:rPr>
              <a:t>Tradisi Manusia pada masa meneta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da masa ini, manusia purba sudah menguasai pengetahuan dan teknologi yang berkaitan dengan usaha pertania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anusia sudah menetap di bangunan yang perman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ereka juga sudah memiliki kemampuan mengadakan persediaan makanan </a:t>
            </a:r>
            <a:r>
              <a:rPr b="0" i="1" lang="en-US" sz="2400" spc="-1" strike="noStrike">
                <a:solidFill>
                  <a:srgbClr val="000000"/>
                </a:solidFill>
                <a:latin typeface="Agency FB"/>
              </a:rPr>
              <a:t>(food producing).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Ciri-ciri peninggalan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masa bercocok tanam ditandai dengan berkembangnya kemahiran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mengasah alat-alat batu dan pembuatan gerabah</a:t>
            </a: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 (benda pecah-belah dari tanah liat yang dibaka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lat yang diasah antara lain kapak lonjong, beliung persegi, mata panah, gerabah, dan perhiasan dari batu dan kerang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54" name="Picture 4" descr="gerabah"/>
          <p:cNvPicPr/>
          <p:nvPr/>
        </p:nvPicPr>
        <p:blipFill>
          <a:blip r:embed="rId1"/>
          <a:stretch/>
        </p:blipFill>
        <p:spPr>
          <a:xfrm>
            <a:off x="457200" y="380880"/>
            <a:ext cx="3048120" cy="2357640"/>
          </a:xfrm>
          <a:prstGeom prst="rect">
            <a:avLst/>
          </a:prstGeom>
          <a:ln w="0">
            <a:noFill/>
          </a:ln>
        </p:spPr>
      </p:pic>
      <p:sp>
        <p:nvSpPr>
          <p:cNvPr id="455" name="Oval 5"/>
          <p:cNvSpPr/>
          <p:nvPr/>
        </p:nvSpPr>
        <p:spPr>
          <a:xfrm>
            <a:off x="762120" y="2895480"/>
            <a:ext cx="266688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b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zaman batu muda"/>
          <p:cNvPicPr/>
          <p:nvPr/>
        </p:nvPicPr>
        <p:blipFill>
          <a:blip r:embed="rId2"/>
          <a:stretch/>
        </p:blipFill>
        <p:spPr>
          <a:xfrm>
            <a:off x="3733920" y="304920"/>
            <a:ext cx="3533760" cy="2438280"/>
          </a:xfrm>
          <a:prstGeom prst="rect">
            <a:avLst/>
          </a:prstGeom>
          <a:ln w="0">
            <a:noFill/>
          </a:ln>
        </p:spPr>
      </p:pic>
      <p:sp>
        <p:nvSpPr>
          <p:cNvPr id="457" name="Oval 7"/>
          <p:cNvSpPr/>
          <p:nvPr/>
        </p:nvSpPr>
        <p:spPr>
          <a:xfrm>
            <a:off x="4114800" y="2895480"/>
            <a:ext cx="2895480" cy="53352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ak lonj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beliung-persegi1"/>
          <p:cNvPicPr/>
          <p:nvPr/>
        </p:nvPicPr>
        <p:blipFill>
          <a:blip r:embed="rId3"/>
          <a:stretch/>
        </p:blipFill>
        <p:spPr>
          <a:xfrm>
            <a:off x="609480" y="3657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59" name="Oval 9"/>
          <p:cNvSpPr/>
          <p:nvPr/>
        </p:nvSpPr>
        <p:spPr>
          <a:xfrm>
            <a:off x="990720" y="5791320"/>
            <a:ext cx="2361960" cy="5331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iung pers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1" descr="Mata-Panah"/>
          <p:cNvPicPr/>
          <p:nvPr/>
        </p:nvPicPr>
        <p:blipFill>
          <a:blip r:embed="rId4"/>
          <a:stretch/>
        </p:blipFill>
        <p:spPr>
          <a:xfrm>
            <a:off x="4114800" y="3733920"/>
            <a:ext cx="4038480" cy="1950840"/>
          </a:xfrm>
          <a:prstGeom prst="rect">
            <a:avLst/>
          </a:prstGeom>
          <a:ln w="0">
            <a:noFill/>
          </a:ln>
        </p:spPr>
      </p:pic>
      <p:sp>
        <p:nvSpPr>
          <p:cNvPr id="461" name="Oval 12"/>
          <p:cNvSpPr/>
          <p:nvPr/>
        </p:nvSpPr>
        <p:spPr>
          <a:xfrm>
            <a:off x="4495680" y="5791320"/>
            <a:ext cx="3124440" cy="4572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a pan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22:42:46Z</dcterms:created>
  <dc:creator>destaniar</dc:creator>
  <dc:description/>
  <dc:language>en-US</dc:language>
  <cp:lastModifiedBy>Windows Vista</cp:lastModifiedBy>
  <dcterms:modified xsi:type="dcterms:W3CDTF">2012-09-12T09:41:41Z</dcterms:modified>
  <cp:revision>22</cp:revision>
  <dc:subject/>
  <dc:title>Tradisi Masyarakat Indonesia Masa Pra Aksara</dc:title>
</cp:coreProperties>
</file>