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0DA84-C855-47AE-A938-AB4BF0F6C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77C42-0AEC-4CBF-9781-65C434E1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50FE2-E60B-4E1E-9990-B31E28DBC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2EA3D-A7BD-4A2D-9689-1DA19A8C9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4A47C-BE08-4112-A459-DDD7419B8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D683E-7765-4AE0-9168-8433ED0B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B14F8-4772-4477-BBFF-0B081895C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E3CB7-D08E-474E-B9AB-79843AB27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E9665-A7DF-4957-B27D-A4FA1A82E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D57D3-5666-4F01-83AD-EAF5085CC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E9820-48CC-4297-92BD-427D1F927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20D3-047D-4F87-8B33-5BFE71960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5385-96A0-44DF-B135-C34DB20E6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5C31-E7EA-4DF7-8EA7-DB019C0E9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1F082-4D4A-492B-BDFF-C2B3C3AC7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709E9-60A4-4344-BB73-BFBB04672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F1BFA-2618-47FF-BC15-57F2474D7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5105-2F15-465C-91D5-11B6CD399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B20B-69F7-4CDF-836E-31282AB04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528C-4F51-4BBA-A071-A12DF55E3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2DEE8-5F52-4209-A16E-4E6E2654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B080-1881-46CF-8B92-545988B87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895A-A096-480E-8419-622D5D77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1E60-70C1-4FED-B668-5EAE9D6DF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F424-C3AF-41AE-B355-F933109890E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977A-D3FD-4A16-B308-C1EF629C9DC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RESPONSABILIDAD MEDICA</a:t>
            </a:r>
            <a:endParaRPr b="0" lang="en-US" sz="48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r. JULIO CESAR MANTILLA HERNANDEZ</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CONTRACTUAL: OBLIGACION DE  INDEMNIZAR QUE ADQUIERE AQUEL QUE OCASIONA PERJUICIOS A OTRO, DEBIDO AL INCUMPLIMIENTO DE UN CONTRATO O A SU CUMPLIMIENTO DEFECTUOSO O TARDIO.</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0000"/>
                </a:solidFill>
                <a:latin typeface="Arial"/>
              </a:rPr>
              <a:t>EXTRACONTRACTUAL: DEBER DE ASUMIR LAS CONSECUENCIAS ECONOMICAS DE UNA CONDUCTA NOCIVA, SIN QUE MEDIE ENTRE LOS SUJETOS RELACION JURIDICA PREVIA.</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1280" y="907920"/>
            <a:ext cx="8964720" cy="52228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BOGADO DE NEGLIGENCIA MEDICA (MALPRACTICA MEDICA)</a:t>
            </a:r>
            <a:br>
              <a:rPr sz="1600"/>
            </a:br>
            <a:br>
              <a:rPr sz="1600"/>
            </a:br>
            <a:r>
              <a:rPr b="0" lang="es-ES" sz="1600" spc="-1" strike="noStrike">
                <a:solidFill>
                  <a:srgbClr val="ffffff"/>
                </a:solidFill>
                <a:latin typeface="Arial"/>
              </a:rPr>
              <a:t>Nuestros abogados en California son expertos en manejar casos de negligencia medica y negligencia dental. Las leyes sobre el tema de malpractica medica son altamente complejas. Los abogados de Nielsen Law Group son muy detallistas y analizaran su caso con toda la atencion y compassion que Usted merece.</a:t>
            </a:r>
            <a:br>
              <a:rPr sz="1600"/>
            </a:br>
            <a:br>
              <a:rPr sz="1600"/>
            </a:br>
            <a:r>
              <a:rPr b="0" lang="es-ES" sz="1600" spc="-1" strike="noStrike">
                <a:solidFill>
                  <a:srgbClr val="ffffff"/>
                </a:solidFill>
                <a:latin typeface="Arial"/>
              </a:rPr>
              <a:t>Negligencia Medica en general se refiere al cuidado medico, tratamiento, diagnostico, o la falta de tratamiento que sea menor al cuidado normal y acceptable. Algunos ejemplos de malpractica medica incluyen diagnostico equivocado, tratamiento erroneo, errores en recetas o prescripciones, seguimiento inapropriado, o retraso en el tratamiento.</a:t>
            </a:r>
            <a:br>
              <a:rPr sz="1600"/>
            </a:br>
            <a:br>
              <a:rPr sz="1600"/>
            </a:br>
            <a:r>
              <a:rPr b="0" lang="es-ES" sz="1600" spc="-1" strike="noStrike">
                <a:solidFill>
                  <a:srgbClr val="ffffff"/>
                </a:solidFill>
                <a:latin typeface="Arial"/>
              </a:rPr>
              <a:t>Otros ejemplos de la negligencia medica son accidentes quirurgicos, perforaciones de organos, y infecciones serias.</a:t>
            </a:r>
            <a:br>
              <a:rPr sz="1600"/>
            </a:br>
            <a:br>
              <a:rPr sz="1600"/>
            </a:br>
            <a:r>
              <a:rPr b="0" lang="es-ES" sz="1600" spc="-1" strike="noStrike">
                <a:solidFill>
                  <a:srgbClr val="ffffff"/>
                </a:solidFill>
                <a:latin typeface="Arial"/>
              </a:rPr>
              <a:t>Nuestros abogados creen que uno de los pleitos mas graves de negligencia medica es cuando un nino este lastimado permanentemente durante el parto a causa de malpractica medica. A veces, por falta de atencion obstetrica suficiente, un nino nace con lesions cerebrales serias o paralisis.</a:t>
            </a:r>
            <a:br>
              <a:rPr sz="1600"/>
            </a:br>
            <a:br>
              <a:rPr sz="1600"/>
            </a:br>
            <a:r>
              <a:rPr b="0" lang="es-ES" sz="1600" spc="-1" strike="noStrike">
                <a:solidFill>
                  <a:srgbClr val="ffffff"/>
                </a:solidFill>
                <a:latin typeface="Arial"/>
              </a:rPr>
              <a:t>Cada caso es diferente y cada caso es importante. Llame ahora para hablar directamentecon un abogado o abogada especialista de nuestro bufete de abogados, sirviendo a la comunidad hispana en todo el sur de California. Hablamos espanol.</a:t>
            </a:r>
            <a:br>
              <a:rPr sz="1600"/>
            </a:br>
            <a:br>
              <a:rPr sz="1600"/>
            </a:br>
            <a:r>
              <a:rPr b="0" lang="es-ES" sz="1600" spc="-1" strike="noStrike">
                <a:solidFill>
                  <a:srgbClr val="ffffff"/>
                </a:solidFill>
                <a:latin typeface="Arial"/>
              </a:rPr>
              <a:t>CONSULTA GRATUITA LLAME GRATIS 1-800-221-0136</a:t>
            </a:r>
            <a:br>
              <a:rPr sz="1600"/>
            </a:br>
            <a:r>
              <a:rPr b="0" lang="es-E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44000" y="620640"/>
            <a:ext cx="8820360" cy="551016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bogados de Negligencia Médica de Chicago, Illinoi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la conducta de un médico, enfermera u hospital cae por abajo de los estándares aceptables el resultado final es frecuentemente un daño de extrema gravedad. Los abogados en Patrick J. Kenneally, Ltd. litigan de manera regular casos complejos de negligencia médica en Chicago, Illinois y a través del país. Frecuentemente empleamos la asistencia de los mejores expertos disponibles de todo el país. Nuestra firma ha manejado con éxito casos que involucran asuntos tales como bebés con daño cerebral, diagnósticos retrasados de cáncer, tratamiento inoportuno de infección y cirugía llevada a cabo de manera neglig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uestros dedicados abogados y personal trabajan duro para preparar los casos para resolución con resultados victorioso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uníquese con Nosotr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IATROGENIA</a:t>
            </a:r>
            <a:r>
              <a:rPr b="0" lang="es-ES" sz="2200" spc="-1" strike="noStrike">
                <a:solidFill>
                  <a:srgbClr val="ffffff"/>
                </a:solidFill>
                <a:latin typeface="Arial"/>
              </a:rPr>
              <a:t>: ACCION ADVERSA O PERJUDICIAL QUE RESULTA DIRECTA O INDIRECTAMENTE DE LA ACTIVIDAD TANTO TERAPEUTICA COMO DIAGNOSTICA DEL EQUIPO DE SALUD. ABARCA DESDE LAS REACCIONES SECUNDARIAS QUE PRODUCEN LAS SUSTANCIAS, HASTA LOS ERRORES DE ACCION U OMISIO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MALPRAXIS</a:t>
            </a:r>
            <a:r>
              <a:rPr b="0" lang="es-ES" sz="2200" spc="-1" strike="noStrike">
                <a:solidFill>
                  <a:srgbClr val="ffffff"/>
                </a:solidFill>
                <a:latin typeface="Arial"/>
              </a:rPr>
              <a:t>: ACCION IMPRUDENTE O NEGLIGENTE DEL MEDICO QUE OCASIONA UN DAÑO EN LA SALUD DEL PACIENTE Y QUE INCLUYE LOS ERRORES MEDIC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50560" y="727200"/>
            <a:ext cx="8507160" cy="5581440"/>
          </a:xfrm>
          <a:prstGeom prst="rect">
            <a:avLst/>
          </a:prstGeom>
          <a:noFill/>
          <a:ln w="0">
            <a:noFill/>
          </a:ln>
        </p:spPr>
        <p:txBody>
          <a:bodyPr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ciembre de 1999, JAMA, Dra. Barbara Starfield, de la Escuela de Higiene y Salud Pública John Hopkins, describe cómo el sistema de salud de los EEUU puede contribuir a la mala salud. </a:t>
            </a:r>
            <a:br>
              <a:rPr sz="1800"/>
            </a:br>
            <a:br>
              <a:rPr sz="1800"/>
            </a:br>
            <a:r>
              <a:rPr b="0" lang="es-ES" sz="1800" spc="-1" strike="noStrike">
                <a:solidFill>
                  <a:srgbClr val="ffffff"/>
                </a:solidFill>
                <a:latin typeface="Arial"/>
              </a:rPr>
              <a:t>MUERTES POR AÑO: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2.000 - cirugías innecesarias. </a:t>
            </a: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7.000 - errores de medicación en hospitales. </a:t>
            </a: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0.000 - otros errores en hospitales. </a:t>
            </a: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80.000 - infecciones en hospitales.</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06.000 - efectos negativos de medicamentos (que no son errores). </a:t>
            </a:r>
            <a:br>
              <a:rPr sz="1800"/>
            </a:br>
            <a:br>
              <a:rPr sz="1800"/>
            </a:br>
            <a:r>
              <a:rPr b="0" lang="es-ES" sz="1800" spc="-1" strike="noStrike">
                <a:solidFill>
                  <a:srgbClr val="ffffff"/>
                </a:solidFill>
                <a:latin typeface="Arial"/>
              </a:rPr>
              <a:t> </a:t>
            </a:r>
            <a:endParaRPr b="0" lang="en-US" sz="1800" spc="-1" strike="noStrike">
              <a:solidFill>
                <a:srgbClr val="ffffff"/>
              </a:solidFill>
              <a:latin typeface="Arial"/>
            </a:endParaRPr>
          </a:p>
          <a:p>
            <a:pPr marL="335880" indent="-3358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 suma 250.000 muertes por año por causas </a:t>
            </a:r>
            <a:r>
              <a:rPr b="1" lang="es-ES" sz="1800" spc="-1" strike="noStrike">
                <a:solidFill>
                  <a:srgbClr val="ffffff"/>
                </a:solidFill>
                <a:latin typeface="Arial"/>
              </a:rPr>
              <a:t>iatrogénicas</a:t>
            </a:r>
            <a:r>
              <a:rPr b="0" lang="es-ES" sz="1800" spc="-1" strike="noStrike">
                <a:solidFill>
                  <a:srgbClr val="ffffff"/>
                </a:solidFill>
                <a:latin typeface="Arial"/>
              </a:rPr>
              <a:t>! </a:t>
            </a:r>
            <a:br>
              <a:rPr sz="1800"/>
            </a:br>
            <a:br>
              <a:rPr sz="1800"/>
            </a:br>
            <a:r>
              <a:rPr b="0" lang="es-ES" sz="1800" spc="-1" strike="noStrike">
                <a:solidFill>
                  <a:srgbClr val="ffffff"/>
                </a:solidFill>
                <a:latin typeface="Arial"/>
              </a:rPr>
              <a:t>¿Qué significa "</a:t>
            </a:r>
            <a:r>
              <a:rPr b="1" lang="es-ES" sz="1800" spc="-1" strike="noStrike">
                <a:solidFill>
                  <a:srgbClr val="ffffff"/>
                </a:solidFill>
                <a:latin typeface="Arial"/>
              </a:rPr>
              <a:t>iatrogénicas</a:t>
            </a:r>
            <a:r>
              <a:rPr b="0" lang="es-ES" sz="1800" spc="-1" strike="noStrike">
                <a:solidFill>
                  <a:srgbClr val="ffffff"/>
                </a:solidFill>
                <a:latin typeface="Arial"/>
              </a:rPr>
              <a:t>"? El término se define como "inducido en un paciente por la actividad, manera, o terapia utilizada por un médico." Se usa especialmente refiriéndose a una complicación del tratamiento. </a:t>
            </a:r>
            <a:br>
              <a:rPr sz="1800"/>
            </a:b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CONTRATO DE SERVICIOS MEDICOS ES CONSENSUAL, YA QUE NO REQUIERE DE NINGUNA FORMALIDAD ESPECIAL PARA SU PERFECCIONAMIENTO Y NACIMIENTO A LA VIDA JURIDIC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CUERDO DE VOLUNTADE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OBLIGACION DEL MEDICO DE ELABORAR DOCUMENTACION: HISTORIA CLINICA, REGISTRO  DE LAS CONDICIONES DEL PACIENTE. MEDIO PROBATORIO FUNDAMENTAL.</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Responsabilidad Civil</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Elemento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1. La conduct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2. El daño</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3. El nexo de causalida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Times New Roman"/>
              </a:rPr>
              <a:t>LA CONDUCTA: ACCION DEL MEDICO</a:t>
            </a:r>
            <a:endParaRPr b="0" lang="en-US" sz="38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ositiva: Acción por comisió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egativa: Acción por omisió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olosa: Cuando se atenta consciente y voluntariamente contra la salud del pacient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mperita: Falta de capacidad o habilidad para realizar determinado procedimiento.</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egligente: No aplicación de las técnicas médicas y los procedimientos terapéuticos, cuando estos son conocidos por el facultativo, y a pesar de ello, no los utiliza en su accionar, agravando la salud del pacient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mprudente: Conducta temeraria, sin diligencia y sin cuidado, que ocasiona daño en la salud. Se produce un resultado no previ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EL DAÑO</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anchor="t">
            <a:normAutofit fontScale="97000"/>
          </a:bodyPr>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EL ELEMENTO DE LA RESPONSABILIDAD CIVIL QUE SE CONSTITUYE EN LA FUENTE DE LA RELACION OBLIGATORIA DE RESARCIR. ES EL DAÑO QUE SE PRODUCE INJUSTAMENTE EN LA VICTIMA.</a:t>
            </a:r>
            <a:endParaRPr b="0" lang="en-US" sz="2200" spc="-1" strike="noStrike">
              <a:solidFill>
                <a:srgbClr val="ffffff"/>
              </a:solidFill>
              <a:latin typeface="Arial"/>
            </a:endParaRPr>
          </a:p>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AÑO CIVIL INDEMNIZABLE: MENOSCABO A LAS FACULTADES JURIDICAS QUE TIENE UNA PERSONA PARA DISFRUTAR UN BIEN PATRIMONIAL O EXTRAPATRIMONIAL.</a:t>
            </a:r>
            <a:endParaRPr b="0" lang="en-US" sz="2200" spc="-1" strike="noStrike">
              <a:solidFill>
                <a:srgbClr val="ffffff"/>
              </a:solidFill>
              <a:latin typeface="Arial"/>
            </a:endParaRPr>
          </a:p>
          <a:p>
            <a:pPr marL="332640" indent="-33264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NDEMNIZACION INCLUYE: DAÑOS ORGANICOS Y PSIQUICOS, GASTOS DE HOSPITAL, DROGAS, HONORARIOS MEDICOS, PERJUICIOS MATERIALES POR NO DESEMPEÑAR SUS LABORES, PERJUICIOS MORALES Y DAÑO FISIOLOGIC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NEXO DE CAUSALIDAD</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DEBE EXISTIR NEXO ENTRE LA CONDUCTA DEL MEDICO (AGRESOR) Y EL DAÑO SUFRIDO POR EL PACIENTE (VICTIMA).</a:t>
            </a:r>
            <a:endParaRPr b="0" lang="en-US" sz="3100" spc="-1" strike="noStrike">
              <a:solidFill>
                <a:srgbClr val="ffffff"/>
              </a:solidFill>
              <a:latin typeface="Arial"/>
            </a:endParaRPr>
          </a:p>
          <a:p>
            <a:pPr marL="3394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EL DAÑO DEBE SER CONSECUENCIA DE UNA CONDUCTA INDEBIDA DEL FACULTATIV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RESPONSABILIDAD LEGAL DEL MEDICO</a:t>
            </a:r>
            <a:endParaRPr b="0" lang="en-US" sz="4000" spc="-1" strike="noStrike">
              <a:solidFill>
                <a:srgbClr val="ffffff"/>
              </a:solidFill>
              <a:latin typeface="Times New Roman"/>
            </a:endParaRPr>
          </a:p>
        </p:txBody>
      </p:sp>
      <p:graphicFrame>
        <p:nvGraphicFramePr>
          <p:cNvPr id="93" name="Object 3"/>
          <p:cNvGraphicFramePr/>
          <p:nvPr/>
        </p:nvGraphicFramePr>
        <p:xfrm>
          <a:off x="1332000" y="1628640"/>
          <a:ext cx="3605040" cy="4530960"/>
        </p:xfrm>
        <a:graphic>
          <a:graphicData uri="http://schemas.openxmlformats.org/presentationml/2006/ole">
            <p:oleObj r:id="rId1" spid="">
              <p:embed/>
              <p:pic>
                <p:nvPicPr>
                  <p:cNvPr id="94" name="Object 3" descr=""/>
                  <p:cNvPicPr/>
                  <p:nvPr/>
                </p:nvPicPr>
                <p:blipFill>
                  <a:blip r:embed="rId2"/>
                  <a:stretch/>
                </p:blipFill>
                <p:spPr>
                  <a:xfrm>
                    <a:off x="1332000" y="1628640"/>
                    <a:ext cx="3605040" cy="4530960"/>
                  </a:xfrm>
                  <a:prstGeom prst="rect">
                    <a:avLst/>
                  </a:prstGeom>
                  <a:ln w="0">
                    <a:noFill/>
                  </a:ln>
                </p:spPr>
              </p:pic>
            </p:oleObj>
          </a:graphicData>
        </a:graphic>
      </p:graphicFrame>
      <p:sp>
        <p:nvSpPr>
          <p:cNvPr id="95" name="PlaceHolder 2"/>
          <p:cNvSpPr>
            <a:spLocks noGrp="1"/>
          </p:cNvSpPr>
          <p:nvPr>
            <p:ph/>
          </p:nvPr>
        </p:nvSpPr>
        <p:spPr>
          <a:xfrm>
            <a:off x="4686480" y="1828800"/>
            <a:ext cx="4000320" cy="4038480"/>
          </a:xfrm>
          <a:prstGeom prst="rect">
            <a:avLst/>
          </a:prstGeom>
          <a:noFill/>
          <a:ln w="0">
            <a:noFill/>
          </a:ln>
        </p:spPr>
        <p:txBody>
          <a:bodyPr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JERCICIO DE LA MEDICINA EN COLOMBIA ESTA SUJETO, COMO LAS DEMAS ACTIVIDADES Y CONDUCTAS, A UNA SERIE DE NORMAS QUE PRETENDEN ASEGURAR SU CORRECTO DESEMPEÑO Y PROTEGER LOS VALORES DE LA COMUNIDAD.</a:t>
            </a:r>
            <a:endParaRPr b="0" lang="en-US" sz="2000" spc="-1" strike="noStrike">
              <a:solidFill>
                <a:srgbClr val="ffffff"/>
              </a:solidFill>
              <a:latin typeface="Arial"/>
            </a:endParaRPr>
          </a:p>
        </p:txBody>
      </p:sp>
      <p:pic>
        <p:nvPicPr>
          <p:cNvPr id="96" name="Picture 5" descr="Justicia%20a"/>
          <p:cNvPicPr/>
          <p:nvPr/>
        </p:nvPicPr>
        <p:blipFill>
          <a:blip r:embed="rId3"/>
          <a:stretch/>
        </p:blipFill>
        <p:spPr>
          <a:xfrm>
            <a:off x="1035000" y="1773360"/>
            <a:ext cx="2422440" cy="41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OBLIGACION MEDICA DE MEDIO</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ONTRATO DE SERVICIOS MEDICOS: EL MEDICO SE COMPROMETE A DESARROLLAR UNA LABOR TENDIENTE A LA CURACION Y EL PACIENTE A RETRIBUIR UNOS HONORARIOS.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EL MEDICO SE OBLIGA A SUMINISTRAR AL PACIENTE UNOS MEDIOS, QUE SON SUS CONOCIMIENTOS Y SU TECNICA Y PRACTICA MEDICAS, LAS CUALES SON PUESTAS AL SERVICIO DE AQUEL PARA PRESTAR LOS CUIDADOS QUE REQUIERA SU SALU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A CLINICA</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ACTO  MEDIC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medico "está obligado a conocer concienzudamente todo lo que el arte médico es capaz de enseñarle en el correspondiente medio científico; a no intentar aquello que escapa a sus posibilidades, pero que está dentro de las que tiene otro; a intervenir, poniendo al servicio de su ministerio todos los conocimientos del caso, toda la diligencia, todo el cuidado, toda la prudencia que un médico, en igualdad de circunstancias habría empleado, de ser médico idóneo, prudente y diligente en ejerció de su profes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0000"/>
                </a:solidFill>
                <a:latin typeface="Arial"/>
              </a:rPr>
              <a:t>El acto médico documental</a:t>
            </a:r>
            <a:r>
              <a:rPr b="0" lang="es-ES" sz="1800" spc="-1" strike="noStrike">
                <a:solidFill>
                  <a:srgbClr val="ffffff"/>
                </a:solidFill>
                <a:latin typeface="Arial"/>
              </a:rPr>
              <a:t>: Registro obligatorio de las condiciones clínico-patológicas del paciente, las prescripciones y actuaciones médicas.</a:t>
            </a:r>
            <a:r>
              <a:rPr b="0" lang="en-U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Y 23 de 1981</a:t>
            </a:r>
            <a:br>
              <a:rPr sz="4000"/>
            </a:br>
            <a:r>
              <a:rPr b="0" lang="en-US" sz="4000" spc="-1" strike="noStrike">
                <a:solidFill>
                  <a:srgbClr val="ffffff"/>
                </a:solidFill>
                <a:latin typeface="Times New Roman"/>
              </a:rPr>
              <a:t>LEY DE ETICA MEDICA</a:t>
            </a:r>
            <a:endParaRPr b="0" lang="en-US" sz="4000" spc="-1" strike="noStrike">
              <a:solidFill>
                <a:srgbClr val="ffffff"/>
              </a:solidFill>
              <a:latin typeface="Times New Roman"/>
            </a:endParaRPr>
          </a:p>
        </p:txBody>
      </p:sp>
      <p:sp>
        <p:nvSpPr>
          <p:cNvPr id="13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34. La historia clínica es el registro obligatorio de las condiciones de salud del paciente. Es un documento privado sometido a reserva, que únicamente puede ser conocido por terceros previa autorización del paciente o en los casos previstos por la Ley ". </a:t>
            </a:r>
            <a:r>
              <a:rPr b="0" lang="es-ES" sz="2000" spc="-1" strike="noStrike">
                <a:solidFill>
                  <a:srgbClr val="ff0000"/>
                </a:solidFill>
                <a:latin typeface="Arial"/>
              </a:rPr>
              <a:t>Este artículo  reglamenta la obligatoriedad del registro de las condiciones de salud del paciente y su reserva frente a terceros.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35. "En las entidades del Sistema Nacional de Salud la Historia Clínica estará ceñida a los modelos implantados por el Ministerio de Salu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Artículo 36. "En todos los casos la historia clínica deberá diligenciarse con clarida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haya cambio de médico, el reemplazado está obligado a entregarla, conjuntamente con sus anexos a su reemplazant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LOR PROBATORIO DE LA HISTORIA CLINICA</a:t>
            </a:r>
            <a:endParaRPr b="0" lang="en-US" sz="36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0000"/>
                </a:solidFill>
                <a:latin typeface="Arial"/>
              </a:rPr>
              <a:t>" La Historia Clínica puede ser el mejor aliado o el peor enemigo del médico dentro de un proceso de responsabilidad profesional".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un documento que está diligenciado en un momento dado por el mismo implicado dentro del acto demandado, es decir, por el profesional de la salud que participó del proceso de atención cuya calidad y cualidad se demanda.</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documento es elaborado no como herramienta probatoria ni defensiva en un momento dado, sino que </a:t>
            </a:r>
            <a:r>
              <a:rPr b="0" lang="es-ES" sz="1800" spc="-1" strike="noStrike">
                <a:solidFill>
                  <a:srgbClr val="ff0000"/>
                </a:solidFill>
                <a:latin typeface="Arial"/>
              </a:rPr>
              <a:t>es diligenciado en cumplimiento de un deber legal, porque es la misma ley la que hace obligatorio su trámite y su inobservancia, responsabiliza al actor omisivo por ello.</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r lo anterior, la historia clínica se convierte en un instrumento probatorio válido, pertinente, útil y eficaz, con el cual se pretende demostrar la verdad procesal coincidente con la verdad material dentro del proceso, y como tal participa del acervo probatorio sujeto también a dicha controversia y valoración por parte del juzgado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LOR PROBATORIO DE LA HISTORIA CLINICA</a:t>
            </a:r>
            <a:endParaRPr b="0" lang="en-US" sz="3600" spc="-1" strike="noStrike">
              <a:solidFill>
                <a:srgbClr val="ffffff"/>
              </a:solidFill>
              <a:latin typeface="Times New Roman"/>
            </a:endParaRPr>
          </a:p>
        </p:txBody>
      </p:sp>
      <p:sp>
        <p:nvSpPr>
          <p:cNvPr id="13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0000"/>
                </a:solidFill>
                <a:latin typeface="Arial"/>
              </a:rPr>
              <a:t>En la medida en que la Historia Clínica sea un acto idóneo, cumplirá con su función probatoria. Pero si ésta se hace de manera negligente, se constituirá en un elemento en contra de las condiciones del servicio prestad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LOR PROBATORIO DE LA HISTORIA CLINICA</a:t>
            </a:r>
            <a:endParaRPr b="0" lang="en-US" sz="3600" spc="-1" strike="noStrike">
              <a:solidFill>
                <a:srgbClr val="ffffff"/>
              </a:solidFill>
              <a:latin typeface="Times New Roman"/>
            </a:endParaRPr>
          </a:p>
        </p:txBody>
      </p:sp>
      <p:sp>
        <p:nvSpPr>
          <p:cNvPr id="13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a historia clínica sí es el único medio probatorio que se estructura desde el mismo acto médico. Sin embargo no debe entenderse como el único medio para demostrar la pericia, diligencia y la prudencia del actuar médico.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0000"/>
                </a:solidFill>
                <a:latin typeface="Arial"/>
              </a:rPr>
              <a:t>La Historia Clínica es la clave para dilucidar decisiones y oportunidades, es decir, para definir el momento en el cual se actuó o se omitió la acción.</a:t>
            </a:r>
            <a:r>
              <a:rPr b="0" lang="en-US" sz="2700" spc="-1" strike="noStrike">
                <a:solidFill>
                  <a:srgbClr val="ff0000"/>
                </a:solidFill>
                <a:latin typeface="Arial"/>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a:t>
            </a:r>
            <a:r>
              <a:rPr b="0" lang="en-US" sz="3200" spc="-1" strike="noStrike">
                <a:solidFill>
                  <a:srgbClr val="ffffff"/>
                </a:solidFill>
                <a:latin typeface="Times New Roman"/>
              </a:rPr>
              <a:t>AQUELLO QUE NO SE PUEDE PROBAR NO EXISTE”</a:t>
            </a:r>
            <a:br>
              <a:rPr sz="3200"/>
            </a:br>
            <a:endParaRPr b="0" lang="en-US" sz="3200" spc="-1" strike="noStrike">
              <a:solidFill>
                <a:srgbClr val="ffffff"/>
              </a:solidFill>
              <a:latin typeface="Times New Roman"/>
            </a:endParaRPr>
          </a:p>
        </p:txBody>
      </p:sp>
      <p:sp>
        <p:nvSpPr>
          <p:cNvPr id="14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0000"/>
                </a:solidFill>
                <a:latin typeface="Arial"/>
              </a:rPr>
              <a:t>OBLIGACION LEGAL DE CONSIGNAR EN LA HISTORIA CLINICA TODAS LAS CONDICIONES DE SALUD DEL PACIENTE ANTES DE LA REALIZACION DEL ACTO MEDICO</a:t>
            </a:r>
            <a:r>
              <a:rPr b="0" lang="en-US" sz="2200" spc="-1" strike="noStrike">
                <a:solidFill>
                  <a:srgbClr val="ffffff"/>
                </a:solidFill>
                <a:latin typeface="Arial"/>
              </a:rPr>
              <a:t>: PARA DEMOSTRAR QUE EN ALGUNOS CASOS, LAS CONDICIONES DEL PACIENTE AL INICIAR SU ATENCION DEPENDEN DE LAS COMPLICACIONES DE LA PATOLOGIA DE BASE, Y NO POR ACCION U OMISION DEL EQUIPO MEDICO.</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0000"/>
                </a:solidFill>
                <a:latin typeface="Arial"/>
              </a:rPr>
              <a:t>UNA HISTORIA CLINICA CON VACIOS, IMPIDE ESBOZAR UNA ESTRATEGIA DEFENSIV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ABILIDAD PENAL</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incumplimiento de las obligaciones inherentes a la historia clínica conlleva responsabilidades penales descritas en el Código Penal por los siguientes tipo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Art. 154 C .P. "Revelación de secreto</a:t>
            </a:r>
            <a:r>
              <a:rPr b="0" lang="es-ES" sz="2200" spc="-1" strike="noStrike">
                <a:solidFill>
                  <a:srgbClr val="ffffff"/>
                </a:solidFill>
                <a:latin typeface="Arial"/>
              </a:rPr>
              <a:t>. El Servidor Público que indebidamente da a conocer documento o noticia que deba mantener en secreto o reserva, incurrirá en...".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te tipo penal protege la administración pública. Es una conducta que exige un sujeto activo calificado, vale decir, requiere que la conducta sea desplegada por un servidor público quien ha debido obtener la información a través de sus funciones. El verbo rector es "dar a conocer", revela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ABILIDAD PENAL</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Art. 155 C .P. "Utilización de asunto sometido a secreto o reserva</a:t>
            </a:r>
            <a:r>
              <a:rPr b="0" lang="es-ES" sz="2200" spc="-1" strike="noStrike">
                <a:solidFill>
                  <a:srgbClr val="ffffff"/>
                </a:solidFill>
                <a:latin typeface="Arial"/>
              </a:rPr>
              <a:t>. El Servidor Público que utilice en provecho propio o ajeno, descubrimiento científico u otra información o dato llegados a su conocimiento por razón de sus funciones, y que deben permanecer en secreto o reserva, incurrirá...".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Tipo Penal que también protege la función pública y requiere un sujeto activo calificado, pues la conducta debe ser desplegada por un servidor público. Y el verbo rector es "utilizar", emplear, usar, pero requiere una calificación especial y es que ese uso, esa disposición de la información, genere un beneficio para el infra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 OLVIDAR</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EN CASO DE MUERTE VIOLENTA O DE REQUERIRSE INTERVENCION DE AUTORIDAD JUDICIAL, ES INDISPENSABLE DILIGENCIAR DE MANERA COMPLETA LA EPICRISI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 ESPECIAL LA FECHA Y HORA DEL FALLECIMIENTO.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OMITIR ESTOS DATOS GENERA SOLICITUD DE COMPARECENCIA ANTE LA AUTORIDAD PARA DECLARACION JURAMENTADA.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RESPONSABILIDAD LEGAL DEL MEDICO</a:t>
            </a:r>
            <a:endParaRPr b="0" lang="en-US" sz="40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SPONSABILIDAD ETICO DISCIPLINARIA</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EY 23 DE 1981. DECRETO REGLAMENTARIO 3380</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ISPOSICIONES DE OBLIGATORIO CUMPLIMIENTO PARA QUIENES EJERCEN LA PROFESIO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ETICA PASA DE SER UNA RESPONSABILIDAD MORAL A UNA JURIDICA, AL SER LA CONDUCTA EXAMINADA POR UN TRIBUNAL DEL ESTADO.</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SI EL MEDICO HA ADQUIRIDO PLENA CONCIENCIA DE SU PAPEL FRENTE AL ENFERMO Y A LA COMUNIDAD, LA RESPONSABILIDAD JURIDICA NO DEBERA INQUIETARL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LITO DE FALSEDAD EN LA HISTORIA CLINICA</a:t>
            </a:r>
            <a:endParaRPr b="0" lang="en-US" sz="4000" spc="-1" strike="noStrike">
              <a:solidFill>
                <a:srgbClr val="ffffff"/>
              </a:solidFill>
              <a:latin typeface="Times New Roman"/>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A HISTORIA CLINICA ES UN DOCUMENTO PRIVADO Y ESTA SOMETIDO A RESERV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S ALTERACIONES Y FALSIFICACIONES SON OBJETO DE  PROTECCION POR PARTE DEL DERECHO PENA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ARTICULO 289 DEL CODIGO PENAL: EL QUE FALSIFIQUE DDOCUMENTO PRIVADO QUE PUEDA SERVIR DE PRUEBA INCURRIRA, SI LO USA, EN PRISION DE 1 A 6 ANOS.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LITO DE FALSEDAD EN LA HISTORIA CLINICA</a:t>
            </a:r>
            <a:endParaRPr b="0" lang="en-US" sz="4000" spc="-1" strike="noStrike">
              <a:solidFill>
                <a:srgbClr val="ffffff"/>
              </a:solidFill>
              <a:latin typeface="Times New Roman"/>
            </a:endParaRPr>
          </a:p>
        </p:txBody>
      </p:sp>
      <p:sp>
        <p:nvSpPr>
          <p:cNvPr id="15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LA HISTORIA CLINICA DEBE DILIGENCIARSE EN FORMA CLARA, LEGIBLE, SIN TACHONES, ENMENDADURAS, INTERCALACIONES, SIN DEJAR ESPACIOS EN BLANCO Y </a:t>
            </a:r>
            <a:r>
              <a:rPr b="0" i="1" lang="en-US" sz="2700" spc="-1" strike="noStrike" u="sng">
                <a:solidFill>
                  <a:srgbClr val="ff0000"/>
                </a:solidFill>
                <a:uFillTx/>
                <a:latin typeface="Arial"/>
              </a:rPr>
              <a:t>SIN UTILIZAR SIGLAS</a:t>
            </a:r>
            <a:r>
              <a:rPr b="0" lang="en-US" sz="2700" spc="-1" strike="noStrike">
                <a:solidFill>
                  <a:srgbClr val="ff0000"/>
                </a:solidFill>
                <a:latin typeface="Arial"/>
              </a:rPr>
              <a: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DA ANOTACION DEBE LLEVAR LA FECHA Y HORA EN LA QUE SE REALIZA, CON EL NOMBRE COMPLETO Y FIRMA DEL AUTOR.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ROR DIAGNOSTICO</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L MEDICO NO PUEDE COMPROMETERSE CON RESULTADOS CONCRETOS, SINO PONER EN FUNCIONAMIENTO LOS MEDIOS NECESARIOS EN BUSCA DE LOS MISMOS, CUMPLIR CON DILIGENCIA, CON PRUDENCIA Y CON LA PERICIA DEBIDAS TODAS  Y CADA UNA DE LAS FUNCIONES QUE COMO PROFESIONAL DE LA SALUD LE CORRESPONDEN, DESPLEGANDO LA ACTIVIDAD REQUERIDA PARA ELLO DE CONFORMIDAD CON LAS NORMAS, REGLAMENTOS, Y PROTOCOLOS SOBRE LA MATERIA, AYUDANDOSE  DE LOS MEDIOS CON LOS QUE CUENTA EN EL PRECISO MOMENTO DE LA ATENCION DE SU PACIEN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ROR DIAGNOSTICO</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MEDICINA ES UNA CIENCIA CARACTERIZADA POR LA INEXACTITUD, LO QUE IMPONE A LOS FUNCIONARIOS ENCARGADOS DE ADELANTAR LOS PROCESOS RELACIONADOS  CON HECHOS PROPIOS DEL EJERCICIO DE LA MISMA, EVITAR A TODA COSTA EL REALIZAR JUICIOS DE VALOR RETROSPECTIVOS, Y EVITAR QUE LOS PERITOS COLABORADORES DE LA ADMINISTRACION DE JUSTICIA,  LO HAGAN, TODA VEZ QUE DICHOS JUICIOS EN PROCESOS DE RESPONSABILIDAD MEDICA RESULTAN TOTALMENTE IRREGULARES DESDE EL PUNTO DE VISTA JURIDICO.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GNOSTICO</a:t>
            </a: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EL DIAGNOSTICO ES EL PRODUCTO DEL ANALISIS DE CORRELACION QUE HACE EL MEDICO DE LOS SIGNOS Y SINTOMAS QUE PRESENTA EL PACIENTE, LOS QUE EVIDENCIA PREVIAMENTE  GRACIAS AL INTERROGATORIO Y AL EXAMEN FISICO REALIZADO, Y LA ENFERMEDAD O ENFERMEDADES QUE PUEDAN CORRESPONDER AL CUADRO CLINICO</a:t>
            </a:r>
            <a:r>
              <a:rPr b="0" lang="en-US" sz="2200" spc="-1" strike="noStrike">
                <a:solidFill>
                  <a:srgbClr val="ffffff"/>
                </a:solidFill>
                <a:latin typeface="Arial"/>
              </a:rPr>
              <a:t>: CORRELACION EN LA QUE ENTRAN EN JUEGO LOS CONOCIMIENTOS, ESTUDIOS, ENTRENAMIENTO, EXPERIENCIA Y LA FRECUENCIA CON QUE SE PRESENTA LA ENFERMEDA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AGNOSTICO</a:t>
            </a:r>
            <a:endParaRPr b="0" lang="en-US" sz="4400" spc="-1" strike="noStrike">
              <a:solidFill>
                <a:srgbClr val="ffffff"/>
              </a:solidFill>
              <a:latin typeface="Times New Roman"/>
            </a:endParaRPr>
          </a:p>
        </p:txBody>
      </p:sp>
      <p:sp>
        <p:nvSpPr>
          <p:cNvPr id="15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0000"/>
                </a:solidFill>
                <a:latin typeface="Arial"/>
              </a:rPr>
              <a:t>EL DIAGNOSTICO INICIAL AL QUE PUEDE LLEGAR UN MEDICO, DEBE ENTENDERSE COMO  UNA PROBABILIDAD, LA CUAL ADQUIERE MAYOR O MENOR GRADO DE CERTEZA A MEDIDA QUE SE DEDICA MAYOR TIEMPO A LA ATENCION DEL PACIENT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ROR DIAGNOSTIC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EL ERROR DIAGNOSTICO POR SI SOLO NO GENERA RESPONSABILIDAD PARA EL MEDICO QUE INCURRE EN EL, SIEMPRE Y CUANDO SU CONDUCTA EN CONJUNTO SE ENCUENTRE PRECEDIDA POR UN BUEN ACTUAR, ESTO QUIERE DECIR EN CUMPLIMIENTO DE LA LEX ARTIS</a:t>
            </a:r>
            <a:r>
              <a:rPr b="0" lang="en-US" sz="2200" spc="-1" strike="noStrike">
                <a:solidFill>
                  <a:srgbClr val="ffffff"/>
                </a:solidFill>
                <a:latin typeface="Arial"/>
              </a:rPr>
              <a:t>, ENTENDIDA ESTA COMO AQUELLOS MANDATOS O REGLAS , QUE DEBEN SER OBSERVADOS DENTRO DE DETERMINADO ARTE O TECNICA, A EFECTOS DE PODER LOGRAR UNOS DETERMINADOS RESULTAD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5280" y="1341360"/>
            <a:ext cx="8229600" cy="453384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El médico además de realizar actuaciones específicamente clínico-quirúrgicas, tiene obligación de realizar otras de carácter documental, como son entre otros los certificados de alta, (epicrisis), certificaciones de nacimiento y defunción, dictámenes por lesiones personales, dictámenes de edad, dictámenes de embriaguez, dictámenes sexológicos entre otro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360" y="1413000"/>
            <a:ext cx="8229600" cy="4533840"/>
          </a:xfrm>
          <a:prstGeom prst="rect">
            <a:avLst/>
          </a:prstGeom>
          <a:noFill/>
          <a:ln w="0">
            <a:noFill/>
          </a:ln>
        </p:spPr>
        <p:txBody>
          <a:bodyPr anchor="t">
            <a:normAutofit fontScale="98000"/>
          </a:bodyPr>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endParaRPr b="0" lang="en-US" sz="2700" spc="-1" strike="noStrike">
              <a:solidFill>
                <a:srgbClr val="ffffff"/>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r>
              <a:rPr b="0" lang="es-ES" sz="2700" spc="-1" strike="noStrike">
                <a:solidFill>
                  <a:srgbClr val="ffffff"/>
                </a:solidFill>
                <a:latin typeface="Arial"/>
              </a:rPr>
              <a:t>El término certificado tiene su origen etimológico en el </a:t>
            </a:r>
            <a:r>
              <a:rPr b="1" i="1" lang="es-ES" sz="2700" spc="-1" strike="noStrike">
                <a:solidFill>
                  <a:srgbClr val="ffffff"/>
                </a:solidFill>
                <a:latin typeface="Arial"/>
              </a:rPr>
              <a:t>Latín “certificatio” que significa cierto,</a:t>
            </a:r>
            <a:r>
              <a:rPr b="0" lang="es-ES" sz="2700" spc="-1" strike="noStrike">
                <a:solidFill>
                  <a:srgbClr val="ffffff"/>
                </a:solidFill>
                <a:latin typeface="Arial"/>
              </a:rPr>
              <a:t> </a:t>
            </a:r>
            <a:r>
              <a:rPr b="1" i="1" lang="es-ES" sz="2700" spc="-1" strike="noStrike">
                <a:solidFill>
                  <a:srgbClr val="ffffff"/>
                </a:solidFill>
                <a:latin typeface="Arial"/>
              </a:rPr>
              <a:t>seguro, que no admite duda</a:t>
            </a:r>
            <a:r>
              <a:rPr b="0" lang="es-ES" sz="2700" spc="-1" strike="noStrike">
                <a:solidFill>
                  <a:srgbClr val="ffffff"/>
                </a:solidFill>
                <a:latin typeface="Arial"/>
              </a:rPr>
              <a:t>. En términos generales, los certificados que expiden los </a:t>
            </a:r>
            <a:r>
              <a:rPr b="0" lang="es-ES" sz="2700" spc="-1" strike="noStrike" u="sng">
                <a:solidFill>
                  <a:srgbClr val="ffffff"/>
                </a:solidFill>
                <a:uFillTx/>
                <a:latin typeface="Arial"/>
              </a:rPr>
              <a:t>médicos habilitados</a:t>
            </a:r>
            <a:r>
              <a:rPr b="0" lang="es-ES" sz="2700" spc="-1" strike="noStrike">
                <a:solidFill>
                  <a:srgbClr val="ffffff"/>
                </a:solidFill>
                <a:latin typeface="Arial"/>
              </a:rPr>
              <a:t> responden a una </a:t>
            </a:r>
            <a:r>
              <a:rPr b="0" lang="es-ES" sz="2700" spc="-1" strike="noStrike" u="sng">
                <a:solidFill>
                  <a:srgbClr val="ffffff"/>
                </a:solidFill>
                <a:uFillTx/>
                <a:latin typeface="Arial"/>
              </a:rPr>
              <a:t>petición del paciente o a una normativa legal vigente</a:t>
            </a:r>
            <a:r>
              <a:rPr b="0" lang="es-ES" sz="2700" spc="-1" strike="noStrike">
                <a:solidFill>
                  <a:srgbClr val="ffffff"/>
                </a:solidFill>
                <a:latin typeface="Arial"/>
              </a:rPr>
              <a:t> donde se hace constar </a:t>
            </a:r>
            <a:r>
              <a:rPr b="0" lang="es-ES" sz="2700" spc="-1" strike="noStrike" u="sng">
                <a:solidFill>
                  <a:srgbClr val="ffffff"/>
                </a:solidFill>
                <a:uFillTx/>
                <a:latin typeface="Arial"/>
              </a:rPr>
              <a:t>un hecho pasado o presente, afirmativo o negativo comprobado durante la práctica profesional y fiel expresión de la verdad </a:t>
            </a:r>
            <a:r>
              <a:rPr b="0" lang="es-ES" sz="2700" spc="-1" strike="noStrike">
                <a:solidFill>
                  <a:srgbClr val="ffffff"/>
                </a:solidFill>
                <a:latin typeface="Arial"/>
              </a:rPr>
              <a:t>                                                                                          .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RTIFICADOS MEDICOS</a:t>
            </a:r>
            <a:endParaRPr b="0" lang="en-US" sz="4400" spc="-1" strike="noStrike">
              <a:solidFill>
                <a:srgbClr val="ffffff"/>
              </a:solidFill>
              <a:latin typeface="Times New Roman"/>
            </a:endParaRPr>
          </a:p>
        </p:txBody>
      </p:sp>
      <p:sp>
        <p:nvSpPr>
          <p:cNvPr id="16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No son los certificados médicos documentos sin valor, ni trascendencia social; por el contrario, casi siempre tienen un objetivo probatorio de naturaleza privada y pública. Es el caso del certificado individual de defunción,  de las incapacidades médicas para efectos de obtener licencia laboral o una determinada indemnización o para justificar la ausencia en el cumplimiento de un determinado deber, para certificar el nacimiento de una nueva vida, en los casos de registros de nacimiento y para efectos de demostrar el estado civil de las personas; pero pueden tener finalidades públicas  cuando están destinadas a cumplir una finalidad probatoria en un proceso civil, administrativo o pena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A RESPONSABILIDAD ETICO DISCIPLINARIA</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	</a:t>
            </a:r>
            <a:r>
              <a:rPr b="0" lang="es-ES" sz="3100" spc="-1" strike="noStrike">
                <a:solidFill>
                  <a:srgbClr val="ffffff"/>
                </a:solidFill>
                <a:latin typeface="Arial"/>
              </a:rPr>
              <a:t>	</a:t>
            </a:r>
            <a:r>
              <a:rPr b="0" lang="es-ES" sz="3100" spc="-1" strike="noStrike">
                <a:solidFill>
                  <a:srgbClr val="ffffff"/>
                </a:solidFill>
                <a:latin typeface="Arial"/>
              </a:rPr>
              <a:t>  </a:t>
            </a:r>
            <a:r>
              <a:rPr b="0" lang="es-ES" sz="3100" spc="-1" strike="noStrike">
                <a:solidFill>
                  <a:srgbClr val="ffffff"/>
                </a:solidFill>
                <a:latin typeface="Arial"/>
              </a:rPr>
              <a:t>CARACTERISTICAS</a:t>
            </a:r>
            <a:endParaRPr b="0" lang="en-US" sz="31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APLICA EXCLUSIVAMENTE A QUIENES TIENEN TITULO DE MEDICO.</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PERSONAL E INTRASMISIBL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O ES SUSCEPTIBLE DE DESISTIMIENTO, TRANSACION, NI CONCILIACION POR EL CARÁCTER INAJENABLE QUE TIENEN SUS CONTENIDOS ETICO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JUZGADOR ES EL TRIBUNAL DE ETICA MEDICA, INTEGRADO POR PARE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SANCION ES DE CARÁCTER DISCIPLINARI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1413000"/>
            <a:ext cx="8229600" cy="4533840"/>
          </a:xfrm>
          <a:prstGeom prst="rect">
            <a:avLst/>
          </a:prstGeom>
          <a:noFill/>
          <a:ln w="0">
            <a:noFill/>
          </a:ln>
        </p:spPr>
        <p:txBody>
          <a:bodyPr anchor="t">
            <a:normAutofit fontScale="92000"/>
          </a:bodyPr>
          <a:p>
            <a:pPr marL="3153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a:p>
            <a:pPr marL="3153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Para el derecho el certificado médico es un documento privado (equiparable al público en los casos de certificados de defunción y nacimiento) y un instrumento que en ciertos casos adquiere interés más allá de lo estrictamente médico, abarcando una relevancia de resorte jurídico, medico-legal y sanitari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95280" y="1052640"/>
            <a:ext cx="8229600" cy="4533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os certificados deberán redactarse en recetarios con membrete o formularios especiales, en idioma español (con letra claramente legible o de molde-imprenta-) y en forma concisa para que su interpretación sea única y nunca dudosa. Allí se consignarán los datos de quien lo extiende y de quien lo solicita, adjuntando con el documento de identidad a la vista su número, domicilio, teléfono, edad, ocupación y todo otro dato de interés que a juicio del médico deba consignar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69" name="PlaceHolder 2"/>
          <p:cNvSpPr>
            <a:spLocks noGrp="1"/>
          </p:cNvSpPr>
          <p:nvPr>
            <p:ph/>
          </p:nvPr>
        </p:nvSpPr>
        <p:spPr>
          <a:xfrm>
            <a:off x="533520" y="1828800"/>
            <a:ext cx="8153280" cy="4038480"/>
          </a:xfrm>
          <a:prstGeom prst="rect">
            <a:avLst/>
          </a:prstGeom>
          <a:noFill/>
          <a:ln w="0">
            <a:noFill/>
          </a:ln>
        </p:spPr>
        <p:txBody>
          <a:bodyPr anchor="t">
            <a:normAutofit fontScale="94000"/>
          </a:bodyPr>
          <a:p>
            <a:pPr marL="322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r>
              <a:rPr b="0" lang="es-ES" sz="3100" spc="-1" strike="noStrike">
                <a:solidFill>
                  <a:srgbClr val="ffffff"/>
                </a:solidFill>
                <a:latin typeface="Arial"/>
              </a:rPr>
              <a:t>El Certificado Médico de Defunción (CD) es el documento médico-legal que acredita la muerte del fallecido. El mismo es imprescindible para la inscripción de la defunción en el Registro Civil de las Personas. Luego pasa al DANE, en donde codificando las causas del deceso de acuerdo con la Clasificación Internacional de Enfermedades (CIE) se estatifica la causa de muerte.</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S DE DEFUNCION</a:t>
            </a:r>
            <a:endParaRPr b="0" lang="en-US" sz="4000" spc="-1" strike="noStrike">
              <a:solidFill>
                <a:srgbClr val="ffffff"/>
              </a:solidFill>
              <a:latin typeface="Times New Roman"/>
            </a:endParaRPr>
          </a:p>
        </p:txBody>
      </p:sp>
      <p:sp>
        <p:nvSpPr>
          <p:cNvPr id="171" name="PlaceHolder 2"/>
          <p:cNvSpPr>
            <a:spLocks noGrp="1"/>
          </p:cNvSpPr>
          <p:nvPr>
            <p:ph/>
          </p:nvPr>
        </p:nvSpPr>
        <p:spPr>
          <a:xfrm>
            <a:off x="533520" y="1828800"/>
            <a:ext cx="8153280" cy="4038480"/>
          </a:xfrm>
          <a:prstGeom prst="rect">
            <a:avLst/>
          </a:prstGeom>
          <a:noFill/>
          <a:ln w="0">
            <a:noFill/>
          </a:ln>
        </p:spPr>
        <p:txBody>
          <a:bodyPr anchor="t">
            <a:normAutofit fontScale="94000"/>
          </a:bodyPr>
          <a:p>
            <a:pPr marL="322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r>
              <a:rPr b="0" lang="es-ES" sz="2700" spc="-1" strike="noStrike">
                <a:solidFill>
                  <a:srgbClr val="ffffff"/>
                </a:solidFill>
                <a:latin typeface="Arial"/>
              </a:rPr>
              <a:t>Desde hace tiempo, se sabe y se señala la falta de correlación clínico patológica entre las causas de muerte que figuran en los (</a:t>
            </a:r>
            <a:r>
              <a:rPr b="1" lang="es-ES" sz="2700" spc="-1" strike="noStrike">
                <a:solidFill>
                  <a:srgbClr val="ffffff"/>
                </a:solidFill>
                <a:latin typeface="Arial"/>
              </a:rPr>
              <a:t>CD)</a:t>
            </a:r>
            <a:r>
              <a:rPr b="0" lang="es-ES" sz="2700" spc="-1" strike="noStrike">
                <a:solidFill>
                  <a:srgbClr val="ffffff"/>
                </a:solidFill>
                <a:latin typeface="Arial"/>
              </a:rPr>
              <a:t> y las verdaderas, encontradas en las necropsias. Analizando las causas principales de tales incongruencias, se concluye en parte, que es debido al inconveniente uso de términos como PARO CARDIO RESPIRATORIO O HIPOXIA</a:t>
            </a:r>
            <a:endParaRPr b="0" lang="en-US" sz="2700" spc="-1" strike="noStrike">
              <a:solidFill>
                <a:srgbClr val="ffffff"/>
              </a:solidFill>
              <a:latin typeface="Arial"/>
            </a:endParaRPr>
          </a:p>
          <a:p>
            <a:pPr marL="322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	</a:t>
            </a:r>
            <a:r>
              <a:rPr b="0" lang="es-ES" sz="2700" spc="-1" strike="noStrike">
                <a:solidFill>
                  <a:srgbClr val="ffffff"/>
                </a:solidFill>
                <a:latin typeface="Arial"/>
              </a:rPr>
              <a:t>Los anteriores términos, no son verdaderas causas de muerte, sino acontecimientos finales o fenómenos agónicos terminales.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http://www.gfxzone.org/theme/iotw/04/lentium+phornee-micos.png"/>
          <p:cNvPicPr/>
          <p:nvPr/>
        </p:nvPicPr>
        <p:blipFill>
          <a:blip r:embed="rId1"/>
          <a:stretch/>
        </p:blipFill>
        <p:spPr>
          <a:xfrm>
            <a:off x="928800" y="411120"/>
            <a:ext cx="7358040" cy="5518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7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El Certificado Médico de defunción es el documento  pone fin a la existencia de una persona desde el punto de vista jurídico.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Informar sobre la causa de defunción es exclusiva competencia del médico que certifica el fin de la existencia de una persona.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76" name="PlaceHolder 2"/>
          <p:cNvSpPr>
            <a:spLocks noGrp="1"/>
          </p:cNvSpPr>
          <p:nvPr>
            <p:ph/>
          </p:nvPr>
        </p:nvSpPr>
        <p:spPr>
          <a:xfrm>
            <a:off x="533520" y="1828800"/>
            <a:ext cx="8153280" cy="4038480"/>
          </a:xfrm>
          <a:prstGeom prst="rect">
            <a:avLst/>
          </a:prstGeom>
          <a:noFill/>
          <a:ln w="0">
            <a:noFill/>
          </a:ln>
        </p:spPr>
        <p:txBody>
          <a:bodyPr anchor="t">
            <a:normAutofit fontScale="97000"/>
          </a:bodyPr>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Ser escrito de puño y letra por el médico</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Ser escrito con letra legible</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Ser escrito con tinta de color azul oscuro, o negro</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Completarse todos los datos</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Requerirse el documento de identidad del fallecido. </a:t>
            </a:r>
            <a:endParaRPr b="0" lang="en-US" sz="2700" spc="-1" strike="noStrike">
              <a:solidFill>
                <a:srgbClr val="ffffff"/>
              </a:solidFill>
              <a:latin typeface="Arial"/>
            </a:endParaRPr>
          </a:p>
          <a:p>
            <a:pPr marL="591120" indent="-59112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Consignar el domicilio denunciado por el padre tutor o encargado o por el familiar directo present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78" name="PlaceHolder 2"/>
          <p:cNvSpPr>
            <a:spLocks noGrp="1"/>
          </p:cNvSpPr>
          <p:nvPr>
            <p:ph/>
          </p:nvPr>
        </p:nvSpPr>
        <p:spPr>
          <a:xfrm>
            <a:off x="533520" y="1828800"/>
            <a:ext cx="8153280" cy="4038480"/>
          </a:xfrm>
          <a:prstGeom prst="rect">
            <a:avLst/>
          </a:prstGeom>
          <a:noFill/>
          <a:ln w="0">
            <a:noFill/>
          </a:ln>
        </p:spPr>
        <p:txBody>
          <a:bodyPr anchor="t">
            <a:normAutofit/>
          </a:bodyPr>
          <a:p>
            <a:pPr marL="609480" indent="-6094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Guía para completar las causas de fallecimiento:   </a:t>
            </a:r>
            <a:endParaRPr b="0" lang="en-US" sz="2700" spc="-1" strike="noStrike">
              <a:solidFill>
                <a:srgbClr val="ffffff"/>
              </a:solidFill>
              <a:latin typeface="Arial"/>
            </a:endParaRPr>
          </a:p>
          <a:p>
            <a:pPr lvl="1" marL="990720" indent="-533520">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ausa Directa: en primer lugar se deberá consignar  la enfermedad o condición patológica que produjo la muerte directamente.</a:t>
            </a:r>
            <a:endParaRPr b="0" lang="en-US" sz="2200" spc="-1" strike="noStrike">
              <a:solidFill>
                <a:srgbClr val="ffffff"/>
              </a:solidFill>
              <a:latin typeface="Arial"/>
            </a:endParaRPr>
          </a:p>
          <a:p>
            <a:pPr lvl="1" marL="990720" indent="-533520">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Causas antecedentes o causa intermedia</a:t>
            </a:r>
            <a:r>
              <a:rPr b="0" lang="es-ES" sz="2200" spc="-1" strike="noStrike">
                <a:solidFill>
                  <a:srgbClr val="ffffff"/>
                </a:solidFill>
                <a:latin typeface="Arial"/>
              </a:rPr>
              <a:t>: estados morbosos que produjeron la causa arriba consignada.</a:t>
            </a:r>
            <a:endParaRPr b="0" lang="en-US" sz="2200" spc="-1" strike="noStrike">
              <a:solidFill>
                <a:srgbClr val="ffffff"/>
              </a:solidFill>
              <a:latin typeface="Arial"/>
            </a:endParaRPr>
          </a:p>
          <a:p>
            <a:pPr lvl="1" marL="990720" indent="-533520">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Causa básica o fundamental</a:t>
            </a:r>
            <a:r>
              <a:rPr b="0" lang="es-ES" sz="2200" spc="-1" strike="noStrike">
                <a:solidFill>
                  <a:srgbClr val="ffffff"/>
                </a:solidFill>
                <a:latin typeface="Arial"/>
              </a:rPr>
              <a:t>: la enfermedad o lesión que inició la cadena de acontecimientos patológic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Causa Directa</a:t>
            </a:r>
            <a:r>
              <a:rPr b="0" lang="es-ES" sz="2200" spc="-1" strike="noStrike">
                <a:solidFill>
                  <a:srgbClr val="ffffff"/>
                </a:solidFill>
                <a:latin typeface="Arial"/>
              </a:rPr>
              <a:t>: Es la responsable de la muerte y la que justifica el desenlace fatal, aunque se deba, como hemos dicho, a toda una serie de acontecimientos concatenado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a misma es la única que no puede quedar sin señalar, porque puede que el médico no conozca al paciente ni sus antecedentes, pero si llega con un cuadro de edema agudo del pulmón esta es la causa directa de la muerte y luego se investigará su causa etiológica.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Como ejemplos de causa directas "puras" se enumeran  todos los estados de shock, el edema agudo de pulmón, la anemia aguda, la septicemia, etc.</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Causa Intermedia</a:t>
            </a:r>
            <a:r>
              <a:rPr b="0" lang="es-ES" sz="2200" spc="-1" strike="noStrike">
                <a:solidFill>
                  <a:srgbClr val="ffffff"/>
                </a:solidFill>
                <a:latin typeface="Arial"/>
              </a:rPr>
              <a:t>: Se considera causa intermedia a la complicación principal que lleva a la causa directa de muerte. Esta complicación tiene que estar avalada o justificada por la causa básica ya tratad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Por ejemplo tenemos como causa intermedia una hemorragia digestiva alta, se tiene que deber a alguna enfermedad que la pueden provocar: ULCERA PEPTICA que es la causa básic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a complicación de la misma genera un estado de emergencia hemodinámica que desencadena la muerte por ANEMIA AGUDA.</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NORMAS DE ETICA MEDICA</a:t>
            </a:r>
            <a:br>
              <a:rPr sz="4000"/>
            </a:br>
            <a:r>
              <a:rPr b="0" lang="es-ES" sz="4000" spc="-1" strike="noStrike">
                <a:solidFill>
                  <a:srgbClr val="ffffff"/>
                </a:solidFill>
                <a:latin typeface="Times New Roman"/>
              </a:rPr>
              <a:t>LEY 23 DE 1981</a:t>
            </a:r>
            <a:endParaRPr b="0" lang="en-US" sz="40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00"/>
                </a:solidFill>
                <a:latin typeface="Arial"/>
              </a:rPr>
              <a:t>           </a:t>
            </a:r>
            <a:r>
              <a:rPr b="0" lang="es-ES" sz="2200" spc="-1" strike="noStrike">
                <a:solidFill>
                  <a:srgbClr val="ff0000"/>
                </a:solidFill>
                <a:latin typeface="Arial"/>
              </a:rPr>
              <a:t>DECLARACION DE PRINCIPIOS</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ARÁCTER ESPIRITUAL DE LA PROFESION MEDICA</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ONDUCTA DEL MEDICO SUJETA A LOS PRECEPTOS DE LA MORAL UNIVERSAL</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LACION DEL MEDICO CON  PACIENTES, COLEGAS, INSTITUCIONES, LA SOCIEDAD Y EL ESTADO.</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CRETO PROFESIONAL</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UBLICIDA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4" name="PlaceHolder 2"/>
          <p:cNvSpPr>
            <a:spLocks noGrp="1"/>
          </p:cNvSpPr>
          <p:nvPr>
            <p:ph/>
          </p:nvPr>
        </p:nvSpPr>
        <p:spPr>
          <a:xfrm>
            <a:off x="533520" y="1828800"/>
            <a:ext cx="8153280" cy="4038480"/>
          </a:xfrm>
          <a:prstGeom prst="rect">
            <a:avLst/>
          </a:prstGeom>
          <a:noFill/>
          <a:ln w="0">
            <a:noFill/>
          </a:ln>
        </p:spPr>
        <p:txBody>
          <a:bodyPr anchor="t">
            <a:normAutofit fontScale="97000"/>
          </a:bodyPr>
          <a:p>
            <a:pPr marL="332640" indent="-33264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Causa básica o fundamental</a:t>
            </a:r>
            <a:r>
              <a:rPr b="0" lang="es-ES" sz="2700" spc="-1" strike="noStrike">
                <a:solidFill>
                  <a:srgbClr val="ffffff"/>
                </a:solidFill>
                <a:latin typeface="Arial"/>
              </a:rPr>
              <a:t> posee autonomía; no es secundaria a ninguna otra entidad nosológica, es por eso que se trata de enfermedades reconocidas, con categoría independiente.  Por tanto, la característica principal es que no depende directamente de otra; por ejemplo, cirrosis hepática, tuberculosis, S.I.D.A., tumores malignos, etc. </a:t>
            </a:r>
            <a:endParaRPr b="0" lang="en-US" sz="2700" spc="-1" strike="noStrike">
              <a:solidFill>
                <a:srgbClr val="ffffff"/>
              </a:solidFill>
              <a:latin typeface="Arial"/>
            </a:endParaRPr>
          </a:p>
          <a:p>
            <a:pPr marL="332640" indent="-33264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a causa básica permite reconocer e identificar el desencadenante del proceso que condujo a la muerte y su consignación permite programar y llevar a cabo acciones de prevención.</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8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USA DIRECTA: SHOCK CARDIOGENICO</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USA ANTECEDENTE: ARRITMIA CARDIAC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USA BASICA: INFARTO AGUDO DE MIOCARDIO</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ANDO NO FIRMAR CERTIFICADOS DE DEFUNCION</a:t>
            </a:r>
            <a:endParaRPr b="0" lang="en-US" sz="2800" spc="-1" strike="noStrike">
              <a:solidFill>
                <a:srgbClr val="ffffff"/>
              </a:solidFill>
              <a:latin typeface="Times New Roman"/>
            </a:endParaRPr>
          </a:p>
        </p:txBody>
      </p:sp>
      <p:sp>
        <p:nvSpPr>
          <p:cNvPr id="18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1. Homicidio o sospecha de homicidio.</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2. Suicidio o sospecha de suicidio.</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3. Cuando se requiera distinguir entre suicidio y homicidio.</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4. Muerte accidental y sospecha de la misma.</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5. Otras muertes en las cuales no exista claridad sobre su causa o la      autopsia sea necesaria para coadyuvar a la identificación de un cadáver cuando medie solicitud de autoridad competent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ANDO NO FIRMAR CERTIFICADOS DE DEFUNCION</a:t>
            </a:r>
            <a:endParaRPr b="0" lang="en-US" sz="2800" spc="-1" strike="noStrike">
              <a:solidFill>
                <a:srgbClr val="ffffff"/>
              </a:solidFill>
              <a:latin typeface="Times New Roman"/>
            </a:endParaRPr>
          </a:p>
        </p:txBody>
      </p:sp>
      <p:sp>
        <p:nvSpPr>
          <p:cNvPr id="19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6. En caso de muerte de personas bajo custodia realizada u ordenada por autoridad oficial, como aquellas privadas de su libertad.</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7. En aquellas muertes que se sospeche han sido causadas por enfermedad profesional.</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8. Cuando se sospeche que la muerte ha ocurrido por la utilización de agentes químicos, biológicos, medicamentos, productos de uso doméstico y similar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 Cuando se sospecha que una muerte ocurrio a consecuencia de un acto medico.</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VESTIGACION POR HOMICIDIO</a:t>
            </a:r>
            <a:endParaRPr b="0" lang="en-US" sz="4000" spc="-1" strike="noStrike">
              <a:solidFill>
                <a:srgbClr val="ffffff"/>
              </a:solidFill>
              <a:latin typeface="Times New Roman"/>
            </a:endParaRPr>
          </a:p>
        </p:txBody>
      </p:sp>
      <p:sp>
        <p:nvSpPr>
          <p:cNvPr id="19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CUERPO DEL DELITO:</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CTA DE LEVANTAMIENTO DEL CADAV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TOCOLO DE NECROPSI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RTIFICADO DE DEFUNC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RTIFICADO MEDICO DE DEFUNCION</a:t>
            </a:r>
            <a:endParaRPr b="0" lang="en-US" sz="40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anchor="t">
            <a:normAutofit fontScale="94000"/>
          </a:bodyPr>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CONCLUSIONES</a:t>
            </a:r>
            <a:endParaRPr b="0" lang="en-US" sz="2700" spc="-1" strike="noStrike">
              <a:solidFill>
                <a:srgbClr val="ffffff"/>
              </a:solidFill>
              <a:latin typeface="Arial"/>
            </a:endParaRPr>
          </a:p>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a constatación de la muerte y certificación de muerte es un acto médico, que legalmente, requiere la confección de un testimonio escrito que es el certificado de defunción.</a:t>
            </a:r>
            <a:endParaRPr b="0" lang="en-US" sz="2700" spc="-1" strike="noStrike">
              <a:solidFill>
                <a:srgbClr val="ffffff"/>
              </a:solidFill>
              <a:latin typeface="Arial"/>
            </a:endParaRPr>
          </a:p>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No se debe registrar la forma de morir como paro cardiorespiratorio no traumático como causa fundamental.</a:t>
            </a:r>
            <a:endParaRPr b="0" lang="en-US" sz="2700" spc="-1" strike="noStrike">
              <a:solidFill>
                <a:srgbClr val="ffffff"/>
              </a:solidFill>
              <a:latin typeface="Arial"/>
            </a:endParaRPr>
          </a:p>
          <a:p>
            <a:pPr marL="322200" indent="-3222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Los casos de muerte por accidente, envenenamiento o violencia son judiciales, es el médico forense el que certificará la muerte y sus causa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5" descr="http://2.bp.blogspot.com/_IU7OPhjPJZE/S1y3fJrP0EI/AAAAAAAABOA/FDibNVUxvvE/s400/tres_micos.jpg"/>
          <p:cNvPicPr/>
          <p:nvPr/>
        </p:nvPicPr>
        <p:blipFill>
          <a:blip r:embed="rId1"/>
          <a:stretch/>
        </p:blipFill>
        <p:spPr>
          <a:xfrm>
            <a:off x="1635120" y="277920"/>
            <a:ext cx="5794560" cy="579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PROCESO DISCIPLINARIO ETICO PROFESIONAL</a:t>
            </a:r>
            <a:endParaRPr b="0" lang="en-US" sz="40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PROCESO PUEDE SER INSTAURADO POR EL PACIENTE, UN FAMILIAR, ENTIDAD PUBLICA O PRIVADA, POR UN PARTICULAR Y DE OFICIO POR EL PROPIO TRIBUNAL DE ETICA MEDICA.</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NOMBRA UN MAGISTRADO PARA LA ETAPA DE INVESTIGAC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PRESENTA EL CASO ANTE EL TRIBUNAL, QUE DECLARA MEDIANTE UNA PROVIDENCIA SI EXISTE MERITO PARA FORMULAR CARGOS POR VIOLACION DE LA ETICA MEDICA EN CONTRA DEL INVESTIGADO.</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UDIENCIA DE DESCARGO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NTENCIA: AMONESTACION PRIVADA, CENSURA, SUSPENSIÓN EN EL EJERCICIO DE LA PROFES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LA RESPONSABILIDAD PENAL</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fontScale="99000"/>
          </a:bodyPr>
          <a:p>
            <a:pPr marL="339480" indent="-3394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DERECHO PENAL HA SIDO A LO LARGO DE LA HISTORIA LA HERRAMIENTA FUNDAMENTAL QUE REPRESENTA EL PODER PUNITIVO DEL ESTADO.</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OR SU INTERMEDIO SE PROHIBE BAJO AMENAZA DE PENA TODA CONDUCTA QUE CAUSE ESCOZOR Y ZOZOBRA EN LA SOCIEDAD.</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L MEDICO TIENE EL DEBER DE PONER TODO SU CUIDADO Y DILIGENCIA SIEMPRE QUE ATIENDA A SUS PACIENTES CON EL FIN DE PROCURAR SU CURACION O MEJORIA, ASÍ QUE CUANDO POR NEGLIGENCIA, DESCUIDO U OMISION CAUSA PERJUICIOS EN LA SALUD DE AQUELLOS, INCURRE EN UNA CONDUCTA ILICITA, QUE SERA CALIFICADA POR EL JUEZ SEGÚN SU MAGNITUD, DESDE LA SIMPLE CULPA HASTA LA MAS GRAVE, PARA ASI MISMO IMPONER AL DEMANDADO LA RESPECTIVA CONDENA A INDEMNIZAR A LA VICTIMA DEL DAÑO CAUSADO, SIN PERJUICIO DE LAS SANCIONES PENALES A QUE HAYA LUGAR</a:t>
            </a:r>
            <a:r>
              <a:rPr b="0" lang="es-E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PENAL Y SU RELACION CON LOS DEMAS PROCESOS</a:t>
            </a:r>
            <a:endParaRPr b="0" lang="en-US" sz="2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PROCESOS PENAL, CIVIL Y ETICO DISCIPLINARIOS SON TOTALMENTE INDEPENDIENTES Y SUS SENTENCIAS, NO NECESARIAMENTE DEBEN COINCIDIR, POR TRATARSE DE VALORACIONES, NORMAS Y CAUSAS DISTINT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UEDE HABER TRASLADO DE PRUEB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I EN UN PROCESO E.D., SE ESTABLECE VIOLACION DE NORMAS PENALES, CIVILES O ADMINISTRATIVAS, LOS HECHOS SE DEBEN PONER EN CONOCIMIENTO DE LA AUTORIDAD COMPET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JUEZ PENAL PUEDE  ADEMAS DE CONDENAR A PRISION, PROHIBIR EL EJERCICIO DE LA PROFESION Y OBLIGAR AL PAGO DE LA CORRESPONDIENTE INDEMNIZACION</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PROCESO PENAL</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LA MEDICINA TIENE COMO PRINCIPIOS ETICOS EL CUIDADO DE LA SALUD DEL HOMBRE Y EL RESPETO POR LA VIDA.</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MEDIANTE SU ACTUACION EL MEDICO PUEDE PONER EN PELIGRO EL BIEN JURIDICO DE LA VIDA Y LA INTEGRIDAD PERSONAL.</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DELITOS APLICABLES: </a:t>
            </a:r>
            <a:r>
              <a:rPr b="0" lang="es-ES" sz="2200" spc="-1" strike="noStrike">
                <a:solidFill>
                  <a:srgbClr val="ffffff"/>
                </a:solidFill>
                <a:latin typeface="Arial"/>
              </a:rPr>
              <a:t>	</a:t>
            </a:r>
            <a:r>
              <a:rPr b="0" lang="es-ES" sz="2200" spc="-1" strike="noStrike">
                <a:solidFill>
                  <a:srgbClr val="ffffff"/>
                </a:solidFill>
                <a:latin typeface="Arial"/>
              </a:rPr>
              <a:t>HOMICIDIO</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LESIONES PERSONALE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ABORTO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	</a:t>
            </a:r>
            <a:r>
              <a:rPr b="0" lang="es-ES" sz="2200" spc="-1" strike="noStrike">
                <a:solidFill>
                  <a:srgbClr val="ffffff"/>
                </a:solidFill>
                <a:latin typeface="Arial"/>
              </a:rPr>
              <a:t>FALSEDAD DOCUMENTA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7:26:23Z</dcterms:created>
  <dc:creator>Julio Cesar Mantilla</dc:creator>
  <dc:description/>
  <dc:language>en-US</dc:language>
  <cp:lastModifiedBy>user</cp:lastModifiedBy>
  <dcterms:modified xsi:type="dcterms:W3CDTF">2010-02-19T18:45:19Z</dcterms:modified>
  <cp:revision>6</cp:revision>
  <dc:subject/>
  <dc:title>RESPONSABILIDAD MEDICA</dc:title>
</cp:coreProperties>
</file>