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18D-0AC2-4E2A-80CB-6BA7A05F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E95-8607-42CA-8BC3-29D0DBA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227-402E-4485-8DF1-C1AE4AF8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B39-C881-4B05-97ED-E43A6610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5FF-39B8-48B8-B86C-956C958D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261-BCE9-4C90-8937-D4401039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E28-853D-43D1-803C-BD19E936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649-FEB4-4B48-ABCB-91A204EE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F22-1796-43D2-97EB-7059BF6C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2A3-E51E-4EF4-BC88-EFB1998A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096-A82D-42A5-A8A7-A5A77D84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235-7B8E-4ACE-A305-F728B3B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8C55-CF1C-4B2E-92AE-4F4D6F84C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4:11:12Z</dcterms:created>
  <dc:creator/>
  <dc:description/>
  <dc:language>en-US</dc:language>
  <cp:lastModifiedBy>Smets</cp:lastModifiedBy>
  <dcterms:modified xsi:type="dcterms:W3CDTF">2011-03-05T19:43:39Z</dcterms:modified>
  <cp:revision>3</cp:revision>
  <dc:subject/>
  <dc:title>שקופית 1</dc:title>
</cp:coreProperties>
</file>