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DF5-8EB0-49A8-83EF-4652425B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97C-9CEF-49C4-83AF-7C137F0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3A4-AFA6-4F3B-A2CA-D2513A90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AAD-0B12-43F6-AC5B-95469DA1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848-B77A-4CDC-B355-CDD321B0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1F5-52B5-4665-8100-8433C15A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2D5-593E-47A6-8781-FFE69FE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D3C-A4BB-4917-B2DC-A021EC4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9A2-11BB-40B8-9613-479ECD9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939-2E44-4A07-B1B3-8F31611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A8A-D21C-4684-BE35-2CD15FC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E34-B3B2-4CE9-898B-F2FABF7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8532-14B1-4647-9CF7-8A782DCB3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4:11:12Z</dcterms:created>
  <dc:creator/>
  <dc:description/>
  <dc:language>en-US</dc:language>
  <cp:lastModifiedBy>Smets</cp:lastModifiedBy>
  <dcterms:modified xsi:type="dcterms:W3CDTF">2011-03-05T19:43:39Z</dcterms:modified>
  <cp:revision>3</cp:revision>
  <dc:subject/>
  <dc:title>שקופית 1</dc:title>
</cp:coreProperties>
</file>