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FAC8-DFDA-47AF-84EC-6EB52F10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333C-F087-4B10-A864-4F902003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01A-312C-44B1-86C9-4284437C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8AC3-7850-4FEE-A224-D2F7C635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A3D-11F3-4426-B323-3160DA5D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F74-DF25-43FC-B6AC-C1FB4466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B6EA-AE95-46B7-ADD5-45FF59BF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BBD-E613-404F-A839-F665DDDE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B62-ADAA-459D-B4BB-DF5B4685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368-D676-42C3-91C9-D9432B3F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244-903D-4E51-BBF4-F7879E01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6B16-F6C3-433C-AAAD-C8D26AA4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7C662-1936-4BB6-B730-F22588E709F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54C12-2797-4412-A473-22BF97BD0E5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7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8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1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1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4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6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7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5:11:54Z</dcterms:created>
  <dc:creator>최봉수</dc:creator>
  <dc:description/>
  <dc:language>en-US</dc:language>
  <cp:lastModifiedBy>맛있다 군만두</cp:lastModifiedBy>
  <dcterms:modified xsi:type="dcterms:W3CDTF">2024-10-01T03:10:08Z</dcterms:modified>
  <cp:revision>3</cp:revision>
  <dc:subject/>
  <dc:title>슬라이드 1</dc:title>
</cp:coreProperties>
</file>