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ED9-9B0A-40B6-BDB7-EE310658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0C4-34C4-475C-BE6B-D9E13DA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C90-FBAE-49BC-8E3F-EB1D85E8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DC4-3F7A-45DE-82FC-CBFC2F92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D4F-4DDF-46D7-89B1-D29EC60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8BC-9EAB-475F-B9A4-7BB963B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1E8-E43A-43DA-B614-9E3D578E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A09-3D4F-4A2C-ADE5-403DB42E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2CE-6BE1-4506-80D8-3FC74CD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F97-A10E-4B57-9A6A-20F81B1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631-5463-40B3-B58F-545AB106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778-1FC1-4740-BD4C-4819AD7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E95F3-342E-4D6F-B828-6F431813CB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051D7-5F21-4FBD-BFF4-5F3FDECA70B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7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1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4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6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11:54Z</dcterms:created>
  <dc:creator>최봉수</dc:creator>
  <dc:description/>
  <dc:language>en-US</dc:language>
  <cp:lastModifiedBy>맛있다 군만두</cp:lastModifiedBy>
  <dcterms:modified xsi:type="dcterms:W3CDTF">2024-10-01T03:10:08Z</dcterms:modified>
  <cp:revision>3</cp:revision>
  <dc:subject/>
  <dc:title>슬라이드 1</dc:title>
</cp:coreProperties>
</file>