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158-16E3-4846-A709-12DB9752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F14-0E61-41CF-8232-9D67FDEE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6D0-9DEC-4DE5-9FA7-2540A608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1A8-58E1-4776-AFC5-186273D4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46E-10BA-45D4-BC6F-FEF9BEE2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84F-24E8-408C-8E05-5D7D7C2F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0FB-E596-420F-B122-32A51CBD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DC7-9DE8-4251-9E00-9E9FFB4D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09E-4877-4A32-B91B-90AAD3D2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050-9E00-4249-88AB-87A1D004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82D-9C41-48A5-B77A-967D9BE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EE2-2622-4376-99EC-DDB849B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1A071-AF64-413A-8D67-80B2E322F3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EC778-EC18-4EEC-95F8-40DC592B188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1:33Z</dcterms:created>
  <dc:creator>최봉수</dc:creator>
  <dc:description/>
  <dc:language>en-US</dc:language>
  <cp:lastModifiedBy>맛있다 군만두</cp:lastModifiedBy>
  <dcterms:modified xsi:type="dcterms:W3CDTF">2023-07-13T09:11:40Z</dcterms:modified>
  <cp:revision>3</cp:revision>
  <dc:subject/>
  <dc:title>슬라이드 1</dc:title>
</cp:coreProperties>
</file>