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927-4FF3-49CB-9875-4A8D8B1C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FFF-A9BF-43FC-9F7A-B5D5B34D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779-C9FF-40CD-AA9E-B62F2452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92A-4B91-419E-A9E4-6CF460F0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D02-18A6-4648-A4F0-28BE9CDD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C21-C96C-41EC-A097-DAB513C6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A53-F93F-45F4-8229-2D7020E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A80-579E-44E0-98DD-C0304A2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E98-7AF7-47E5-9FC8-476A34BA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573-6AFB-48ED-9683-51256C4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53F-F38C-4536-ACE4-4663BED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5FC-5622-4EBD-B7A6-5C38F92D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4ACCE-DDDD-4F73-8B72-DFDE72B5F5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8EC9A-C139-4DF9-887A-4C5EF03C47B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1:33Z</dcterms:created>
  <dc:creator>최봉수</dc:creator>
  <dc:description/>
  <dc:language>en-US</dc:language>
  <cp:lastModifiedBy>맛있다 군만두</cp:lastModifiedBy>
  <dcterms:modified xsi:type="dcterms:W3CDTF">2023-07-13T09:11:40Z</dcterms:modified>
  <cp:revision>3</cp:revision>
  <dc:subject/>
  <dc:title>슬라이드 1</dc:title>
</cp:coreProperties>
</file>