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4A0-EA7B-4056-B39D-573370B9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162-ADB5-4E99-99E8-49283E1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512-322E-43FC-B7BF-0ADF5EBE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9B8-58B5-4C6A-9F5D-1A5689F5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624-9101-4A11-BC70-395A0F5E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894-489A-42CD-B74A-0B99CFF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20C-0797-426B-9EE5-04843B7D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412-A82B-4E7A-83AC-AD2B5DF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788-2043-4DA5-BA96-3D486985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281-53D9-4938-B1E0-3AA0B69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A8F-E399-4926-B035-422BEB8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DFB-378C-4B6D-9120-3932240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2AC-807F-4579-AA71-6651E3CB97A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0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595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03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593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08:24:49Z</dcterms:created>
  <dc:creator/>
  <dc:description/>
  <dc:language>en-US</dc:language>
  <cp:lastModifiedBy>Smets</cp:lastModifiedBy>
  <dcterms:modified xsi:type="dcterms:W3CDTF">2009-02-03T20:20:29Z</dcterms:modified>
  <cp:revision>4</cp:revision>
  <dc:subject/>
  <dc:title>Slide 1</dc:title>
</cp:coreProperties>
</file>