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FAD-E4CA-4C27-BCB7-7C820C5E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411-057B-4F3D-A542-91F797E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F63-E23E-4AB8-B4E4-BCBD142A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324-1314-4EC7-BC0B-7E32BCCC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7CE-D74D-48F0-9084-64961AAD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50C-5430-4058-8665-AAD35708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C65-19F5-4D99-B337-8D343DBA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DF1-708C-4454-820F-EBFEFC4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05C-0EF8-474C-B97D-4D91BC16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093-DA25-4C40-8C7D-84A0961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D15-FECD-400F-A51F-7453E66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1BC-0EEF-401A-B9B0-D734921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A08-70B9-4893-8484-6F45BD5E411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0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595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03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593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08:24:49Z</dcterms:created>
  <dc:creator/>
  <dc:description/>
  <dc:language>en-US</dc:language>
  <cp:lastModifiedBy>Smets</cp:lastModifiedBy>
  <dcterms:modified xsi:type="dcterms:W3CDTF">2009-02-03T20:20:29Z</dcterms:modified>
  <cp:revision>4</cp:revision>
  <dc:subject/>
  <dc:title>Slide 1</dc:title>
</cp:coreProperties>
</file>