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Ricky%20King%20-%20Schiwago-Melodie.wav" ContentType="audio/x-wav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3.gif" ContentType="image/gif"/>
  <Override PartName="/ppt/media/image17.jpeg" ContentType="image/jpeg"/>
  <Override PartName="/ppt/media/image4.jpeg" ContentType="image/jpeg"/>
  <Override PartName="/ppt/media/image22.gif" ContentType="image/gif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687-E5AD-48BF-BD95-7B20C8B5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4F1-14AC-4B3F-9BEB-B606980E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97F-80E9-47A1-AA29-CE0E0872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9AD-F7CF-4860-B2AC-A01EABEA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F19-362D-4182-BAA3-92363C4A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684-0624-4FBE-B595-BC71C90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E0C-AB13-484C-8975-6B878F26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431-6DF7-4FA1-A4CE-772FBF58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F5E-133A-4B81-8225-AFD5301D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2B4-CDE8-4C11-97BD-E4339D6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3F7-8AD8-4AA0-AE6A-0C5AFF49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1F1-B6E2-441D-B886-37D91040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6827-DCC1-4807-BA96-BC98F1D40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ky%20King%20-%20Schiwago-Melodie.wav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diaan0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00ff"/>
                </a:solidFill>
                <a:latin typeface="Matura MT Script Capitals"/>
              </a:rPr>
              <a:t>Saca’s</a:t>
            </a:r>
            <a:br>
              <a:rPr sz="4000"/>
            </a:br>
            <a:r>
              <a:rPr b="0" lang="nl-BE" sz="4000" spc="-1" strike="noStrike">
                <a:solidFill>
                  <a:srgbClr val="ff00ff"/>
                </a:solidFill>
                <a:latin typeface="Matura MT Script Capitals"/>
              </a:rPr>
              <a:t>PowerPoint Present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4797360"/>
            <a:ext cx="28195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33ff"/>
                </a:solidFill>
                <a:latin typeface="Black Chancery"/>
              </a:rPr>
              <a:t>Muzi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33ff"/>
                </a:solidFill>
                <a:latin typeface="Black Chancery"/>
              </a:rPr>
              <a:t>Ricky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33ff"/>
                </a:solidFill>
                <a:latin typeface="Black Chancery"/>
              </a:rPr>
              <a:t>Schiwago-melo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84720" y="4941720"/>
            <a:ext cx="28195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33ff"/>
                </a:solidFill>
                <a:latin typeface="Black Chancery"/>
              </a:rPr>
              <a:t>tit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33ff"/>
                </a:solidFill>
                <a:latin typeface="Black Chancery"/>
              </a:rPr>
              <a:t>Niet alle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9933ff"/>
                </a:solidFill>
                <a:latin typeface="Black Chancery"/>
              </a:rPr>
              <a:t>Aute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9933ff"/>
                </a:solidFill>
                <a:latin typeface="Black Chancery"/>
              </a:rPr>
              <a:t>Nienka van s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7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7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7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0202_En_er_was_licht_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Tegen die donkere dag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7280" y="5877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Negatieve gedachten bij vl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rt_fantasy-055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05440" cy="4824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Het mooie, al is het maar een klein beetj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95280" y="6092640"/>
            <a:ext cx="813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Wint het van het andere dat weet 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d-face-0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4391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Klamp je daaraan va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16000" y="5608800"/>
            <a:ext cx="6400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Zie het als een aangename l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d-face-03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13800" cy="4176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Kleine herinneringen hebben zulke grote betekeniss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3640" y="5734080"/>
            <a:ext cx="83516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Hou die bij je, die wil en kun je niet mi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23d-fantastics-pioneersB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40360" cy="410508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Het kan niet altijd gaan zoals jij het graag zou willen zi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920" y="5589360"/>
            <a:ext cx="82090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Maar helemaal niets is ooit zeker er blijft altijd missch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lindae" descr=""/>
          <p:cNvPicPr/>
          <p:nvPr/>
        </p:nvPicPr>
        <p:blipFill>
          <a:blip r:embed="rId1"/>
          <a:srcRect l="0" t="0" r="0" b="4366"/>
          <a:stretch/>
        </p:blipFill>
        <p:spPr>
          <a:xfrm>
            <a:off x="1187280" y="1268280"/>
            <a:ext cx="6337440" cy="4105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In jezelf en in anderen blijven gelov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920" y="5516280"/>
            <a:ext cx="842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Haalt soms een ongekende kracht in je naar b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nite" descr=""/>
          <p:cNvPicPr/>
          <p:nvPr/>
        </p:nvPicPr>
        <p:blipFill>
          <a:blip r:embed="rId1"/>
          <a:srcRect l="0" t="0" r="0" b="8005"/>
          <a:stretch/>
        </p:blipFill>
        <p:spPr>
          <a:xfrm>
            <a:off x="2124000" y="1125360"/>
            <a:ext cx="4572000" cy="4607280"/>
          </a:xfrm>
          <a:prstGeom prst="rect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Blijf positief denk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280" y="5805360"/>
            <a:ext cx="82090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Blijf aan de kleinste dingen aandacht schen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mermaidH18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58000" cy="4021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Er zit altijd iets tuss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5734080"/>
            <a:ext cx="82803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at het negatieve bij jou iets zal blu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llthatcouldhavebeen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64240" cy="4535640"/>
          </a:xfrm>
          <a:prstGeom prst="rect">
            <a:avLst/>
          </a:prstGeom>
          <a:ln w="54000">
            <a:solidFill>
              <a:srgbClr val="ff0000"/>
            </a:solidFill>
            <a:prstDash val="sysDot"/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Als je het maar wilt zien en erkenn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640" y="5805000"/>
            <a:ext cx="835344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an ga je ook veel meer aan jezelf beken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moonchild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3322800" cy="4392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Je moet nooit iets helemaal opgeven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58920" y="5877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Want niets is zeker in dit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telle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72360" cy="4321080"/>
          </a:xfrm>
          <a:prstGeom prst="rect">
            <a:avLst/>
          </a:prstGeom>
          <a:ln cap="rnd" w="31680">
            <a:solidFill>
              <a:srgbClr val="ff0000"/>
            </a:solidFill>
            <a:custDash>
              <a:ds d="100000" sp="1000"/>
            </a:custDash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Niet alles in ons leven is altijd donke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Als je maar wilt zie je vaak genoeg sterrengeflon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97-20060906-97f001" descr=""/>
          <p:cNvPicPr/>
          <p:nvPr/>
        </p:nvPicPr>
        <p:blipFill>
          <a:blip r:embed="rId1"/>
          <a:srcRect l="0" t="0" r="0" b="3905"/>
          <a:stretch/>
        </p:blipFill>
        <p:spPr>
          <a:xfrm>
            <a:off x="2124000" y="1052640"/>
            <a:ext cx="5400720" cy="3624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Geniet van herkenbare kleine ding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1280" y="4724280"/>
            <a:ext cx="82087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Bewaar ze zorgvuldig bij je mooie herinner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103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2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lorless_jpg" descr=""/>
          <p:cNvPicPr/>
          <p:nvPr/>
        </p:nvPicPr>
        <p:blipFill>
          <a:blip r:embed="rId1"/>
          <a:srcRect l="0" t="0" r="0" b="1968"/>
          <a:stretch/>
        </p:blipFill>
        <p:spPr>
          <a:xfrm>
            <a:off x="971640" y="549360"/>
            <a:ext cx="7200720" cy="5290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Al is de lucht nog zo donker en grauw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87664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Ergens zit altijd een stukje, zonnig en blau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hostOfMary_jpg" descr=""/>
          <p:cNvPicPr/>
          <p:nvPr/>
        </p:nvPicPr>
        <p:blipFill>
          <a:blip r:embed="rId1"/>
          <a:srcRect l="0" t="0" r="0" b="10005"/>
          <a:stretch/>
        </p:blipFill>
        <p:spPr>
          <a:xfrm>
            <a:off x="971640" y="1052640"/>
            <a:ext cx="7200720" cy="46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Als je dat even niet zie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8920" y="5805360"/>
            <a:ext cx="84250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an is het er op dat moment gewoon n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n Elfo1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45080" cy="3959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Wacht rustig af tot de wolken over drijv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0920" y="5444640"/>
            <a:ext cx="84247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Laat in die tijd iets anders in je gedachten blij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omantic_arts-053" descr=""/>
          <p:cNvPicPr/>
          <p:nvPr/>
        </p:nvPicPr>
        <p:blipFill>
          <a:blip r:embed="rId1"/>
          <a:srcRect l="27307" t="24819" r="27307" b="24819"/>
          <a:stretch/>
        </p:blipFill>
        <p:spPr>
          <a:xfrm>
            <a:off x="1042920" y="1198440"/>
            <a:ext cx="6986520" cy="4245120"/>
          </a:xfrm>
          <a:prstGeom prst="rect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enk even aan mooie ding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95280" y="5734080"/>
            <a:ext cx="8352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ie zijn er altijd wel, diep in je herinner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Haal ze even naar bov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5892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Ga er een beetje in gel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45-20060908-065897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973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at er ook voor jou misschien andere tijden kom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95280" y="5444640"/>
            <a:ext cx="84247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Waarvan je tot nu toe alleen maar over kon denken of dagdr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281-20061005-d50de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184720" cy="40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Eens zal voor ieder het tij toch wel een beetje keren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4920" y="5445000"/>
            <a:ext cx="820908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aarin moet je blijven geloven om je te kunnen w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1580-20061112-18b80c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395928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6:01:54Z</dcterms:created>
  <dc:creator>MAIN</dc:creator>
  <dc:description/>
  <dc:language>en-US</dc:language>
  <cp:lastModifiedBy>Smets</cp:lastModifiedBy>
  <dcterms:modified xsi:type="dcterms:W3CDTF">2012-04-19T03:36:12Z</dcterms:modified>
  <cp:revision>16</cp:revision>
  <dc:subject/>
  <dc:title>Niet alles in ons leven is altijd donker </dc:title>
</cp:coreProperties>
</file>