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6FA3-9D8D-45B0-B549-2505C97B5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48DE-8CE4-4535-B17E-4575A5DE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23EB-C8BE-451D-8DF4-5D76AFB18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86D2-2F9C-41F7-BAAB-6721D50EE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A787-B3F7-437A-9709-537B06FA3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8D7C-391D-4B65-B6F3-B781F96F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99FE-9B77-4DF3-9F29-06CEC547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1355-1C8A-423A-9A19-4D3B6448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A315-4B14-48EC-9E12-78E46C3B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3FC0-9E68-4C69-9F5C-494FDF08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B956-1D5B-462F-AD46-FCB140BF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9E0A-12A3-49B7-8F25-C0C5C0C3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039C-58E9-4560-833D-95CC7A4A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0856-409D-4E07-A99C-ED168D3B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B3CA-6BA6-4AD3-A792-869744FA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2B52-B8E8-4177-AEA4-4BC71CC8C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01D2-1042-4232-8861-A54B459DF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3815-124A-458F-B341-8D0FCFBD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7B2C-A8FD-45E2-811D-D6CA7F91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C8E0-F085-4280-86E3-F963BBBB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E03F-002B-4D9D-B956-B33B32F5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B997-4080-46A6-8A1D-646C4971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6C75-5CBB-47B7-9F02-556C74E3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1949-67B5-4E1F-9288-A3E3EA5F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10FF-77A0-4578-B61C-B63326613E0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42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43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Freeform 23"/>
            <p:cNvSpPr/>
            <p:nvPr/>
          </p:nvSpPr>
          <p:spPr>
            <a:xfrm flipH="1">
              <a:off x="-3960" y="2438280"/>
              <a:ext cx="914724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 flipH="1">
              <a:off x="-3960" y="3201840"/>
              <a:ext cx="91458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AB73-4048-4D71-AF1B-0EE1FB5F7DB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finances.gouv.fr/CNCompta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Espace réservé du numéro de diapositive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00CF-CA38-466F-8851-776AA4D47C1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Comptabilité générale</a:t>
            </a:r>
            <a:br>
              <a:rPr sz="4400"/>
            </a:b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et normalisation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7" name="Image 3" descr="WhatsApp Image 2016-11-27 at 18.39.03.jpeg"/>
          <p:cNvPicPr/>
          <p:nvPr/>
        </p:nvPicPr>
        <p:blipFill>
          <a:blip r:embed="rId1"/>
          <a:stretch/>
        </p:blipFill>
        <p:spPr>
          <a:xfrm>
            <a:off x="6643800" y="500040"/>
            <a:ext cx="200016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27BD-2E66-4820-8756-F4F53B88B8D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IV </a:t>
            </a:r>
            <a:br>
              <a:rPr sz="4400"/>
            </a:b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e Plan Comptable Général (PCG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4.1. Présentation du PCG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èglement 99-03 du 29 avril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ise à jour réguliè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www.finances.gouv.fr/CNCompta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ers un droit comptable évolut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numéro de diapositive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515E-8602-4F18-ADB4-FCBF9BE9875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e Plan Comptable Généra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itre 1 : objet et principes de la comptabi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itre 2 : définition des actifs, des passifs, des produits et des char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itre 3 : règles de comptabilisation et d’évaluation des actifs, passifs, charges et prod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itre 4 : tenue, structure et fonctionnement des comp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itre 5 : Documents de synthè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ce réservé du numéro de diapositive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79DB-2021-4E8C-9588-71270E06150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Trois systèmes de présentation des documents de synthè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9320" y="23619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système d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système abrég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système développ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Image 4" descr="WhatsApp Image 2016-11-27 at 18.39.03.jpeg"/>
          <p:cNvPicPr/>
          <p:nvPr/>
        </p:nvPicPr>
        <p:blipFill>
          <a:blip r:embed="rId1"/>
          <a:stretch/>
        </p:blipFill>
        <p:spPr>
          <a:xfrm>
            <a:off x="6429240" y="5286240"/>
            <a:ext cx="200052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numéro de diapositive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F357-5D73-4F43-9BCF-71912F8AE23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4.2. Le plan des comptes du PC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8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e codification décim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numéro de diapositive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F261-93AB-43CE-A56D-987EA7972A9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Comptes de bila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884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lasses 1 à 5 (remplir les rubriques du bilan simplifi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4"/>
          <p:cNvSpPr/>
          <p:nvPr/>
        </p:nvSpPr>
        <p:spPr>
          <a:xfrm>
            <a:off x="7620120" y="5241960"/>
            <a:ext cx="9144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3"/>
          <p:cNvSpPr/>
          <p:nvPr/>
        </p:nvSpPr>
        <p:spPr>
          <a:xfrm>
            <a:off x="4495680" y="5241960"/>
            <a:ext cx="31244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2"/>
          <p:cNvSpPr/>
          <p:nvPr/>
        </p:nvSpPr>
        <p:spPr>
          <a:xfrm>
            <a:off x="3124080" y="5241960"/>
            <a:ext cx="13716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1"/>
          <p:cNvSpPr/>
          <p:nvPr/>
        </p:nvSpPr>
        <p:spPr>
          <a:xfrm>
            <a:off x="457200" y="5241960"/>
            <a:ext cx="266688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0"/>
          <p:cNvSpPr/>
          <p:nvPr/>
        </p:nvSpPr>
        <p:spPr>
          <a:xfrm>
            <a:off x="7620120" y="4516560"/>
            <a:ext cx="9144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9"/>
          <p:cNvSpPr/>
          <p:nvPr/>
        </p:nvSpPr>
        <p:spPr>
          <a:xfrm>
            <a:off x="4495680" y="4516560"/>
            <a:ext cx="312444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8"/>
          <p:cNvSpPr/>
          <p:nvPr/>
        </p:nvSpPr>
        <p:spPr>
          <a:xfrm>
            <a:off x="3124080" y="4516560"/>
            <a:ext cx="1371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7"/>
          <p:cNvSpPr/>
          <p:nvPr/>
        </p:nvSpPr>
        <p:spPr>
          <a:xfrm>
            <a:off x="457200" y="4516560"/>
            <a:ext cx="266688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7620120" y="3763800"/>
            <a:ext cx="91440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5"/>
          <p:cNvSpPr/>
          <p:nvPr/>
        </p:nvSpPr>
        <p:spPr>
          <a:xfrm>
            <a:off x="4495680" y="3763800"/>
            <a:ext cx="312444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4"/>
          <p:cNvSpPr/>
          <p:nvPr/>
        </p:nvSpPr>
        <p:spPr>
          <a:xfrm>
            <a:off x="3124080" y="3763800"/>
            <a:ext cx="137160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457200" y="3763800"/>
            <a:ext cx="26668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7620120" y="3038400"/>
            <a:ext cx="9144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4419720" y="3048120"/>
            <a:ext cx="312408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3124080" y="3038400"/>
            <a:ext cx="1371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457200" y="3038400"/>
            <a:ext cx="266688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7620120" y="2286000"/>
            <a:ext cx="9144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4495680" y="2286000"/>
            <a:ext cx="31244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3124080" y="2286000"/>
            <a:ext cx="13716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457200" y="2286000"/>
            <a:ext cx="266688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26"/>
          <p:cNvSpPr/>
          <p:nvPr/>
        </p:nvSpPr>
        <p:spPr>
          <a:xfrm>
            <a:off x="457200" y="3038400"/>
            <a:ext cx="807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27"/>
          <p:cNvSpPr/>
          <p:nvPr/>
        </p:nvSpPr>
        <p:spPr>
          <a:xfrm>
            <a:off x="457200" y="3763800"/>
            <a:ext cx="807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28"/>
          <p:cNvSpPr/>
          <p:nvPr/>
        </p:nvSpPr>
        <p:spPr>
          <a:xfrm>
            <a:off x="457200" y="4516560"/>
            <a:ext cx="807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29"/>
          <p:cNvSpPr/>
          <p:nvPr/>
        </p:nvSpPr>
        <p:spPr>
          <a:xfrm>
            <a:off x="457200" y="5241960"/>
            <a:ext cx="807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30"/>
          <p:cNvSpPr/>
          <p:nvPr/>
        </p:nvSpPr>
        <p:spPr>
          <a:xfrm>
            <a:off x="457200" y="5994360"/>
            <a:ext cx="80773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31"/>
          <p:cNvSpPr/>
          <p:nvPr/>
        </p:nvSpPr>
        <p:spPr>
          <a:xfrm>
            <a:off x="457200" y="2286000"/>
            <a:ext cx="0" cy="3708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32"/>
          <p:cNvSpPr/>
          <p:nvPr/>
        </p:nvSpPr>
        <p:spPr>
          <a:xfrm>
            <a:off x="3124080" y="2286000"/>
            <a:ext cx="0" cy="370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33"/>
          <p:cNvSpPr/>
          <p:nvPr/>
        </p:nvSpPr>
        <p:spPr>
          <a:xfrm>
            <a:off x="4495680" y="2286000"/>
            <a:ext cx="0" cy="370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34"/>
          <p:cNvSpPr/>
          <p:nvPr/>
        </p:nvSpPr>
        <p:spPr>
          <a:xfrm>
            <a:off x="7620120" y="2286000"/>
            <a:ext cx="0" cy="370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35"/>
          <p:cNvSpPr/>
          <p:nvPr/>
        </p:nvSpPr>
        <p:spPr>
          <a:xfrm>
            <a:off x="8534520" y="2286000"/>
            <a:ext cx="0" cy="3708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37"/>
          <p:cNvSpPr/>
          <p:nvPr/>
        </p:nvSpPr>
        <p:spPr>
          <a:xfrm>
            <a:off x="3124080" y="22860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25"/>
          <p:cNvSpPr/>
          <p:nvPr/>
        </p:nvSpPr>
        <p:spPr>
          <a:xfrm>
            <a:off x="457200" y="2286000"/>
            <a:ext cx="26668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38"/>
          <p:cNvSpPr/>
          <p:nvPr/>
        </p:nvSpPr>
        <p:spPr>
          <a:xfrm>
            <a:off x="4495680" y="2286000"/>
            <a:ext cx="403884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Espace réservé du numéro de diapositive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74EE-28F4-4615-8D03-A85C509F1C2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Comptes de résult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121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mptes 6 et 7 (remplir les rubriques du compte de résultat simplifi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5867280" y="5632560"/>
            <a:ext cx="274320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8"/>
          <p:cNvSpPr/>
          <p:nvPr/>
        </p:nvSpPr>
        <p:spPr>
          <a:xfrm>
            <a:off x="3124080" y="5632560"/>
            <a:ext cx="274320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380880" y="5632560"/>
            <a:ext cx="274320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6"/>
          <p:cNvSpPr/>
          <p:nvPr/>
        </p:nvSpPr>
        <p:spPr>
          <a:xfrm>
            <a:off x="5791320" y="4724280"/>
            <a:ext cx="27432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3124080" y="4687920"/>
            <a:ext cx="27432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iveau exceptio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380880" y="4687920"/>
            <a:ext cx="27432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3"/>
          <p:cNvSpPr/>
          <p:nvPr/>
        </p:nvSpPr>
        <p:spPr>
          <a:xfrm>
            <a:off x="5867280" y="3743280"/>
            <a:ext cx="27432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3124080" y="3743280"/>
            <a:ext cx="27432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iveau financ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380880" y="3743280"/>
            <a:ext cx="27432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5867280" y="2798640"/>
            <a:ext cx="27432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3124080" y="2798640"/>
            <a:ext cx="27432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iveau explo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380880" y="2798640"/>
            <a:ext cx="27432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5867280" y="2133720"/>
            <a:ext cx="274320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du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3124080" y="2133720"/>
            <a:ext cx="274320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ésult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380880" y="2133720"/>
            <a:ext cx="274320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har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20"/>
          <p:cNvSpPr/>
          <p:nvPr/>
        </p:nvSpPr>
        <p:spPr>
          <a:xfrm>
            <a:off x="380880" y="2133720"/>
            <a:ext cx="8229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21"/>
          <p:cNvSpPr/>
          <p:nvPr/>
        </p:nvSpPr>
        <p:spPr>
          <a:xfrm>
            <a:off x="380880" y="279864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22"/>
          <p:cNvSpPr/>
          <p:nvPr/>
        </p:nvSpPr>
        <p:spPr>
          <a:xfrm>
            <a:off x="380880" y="37432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23"/>
          <p:cNvSpPr/>
          <p:nvPr/>
        </p:nvSpPr>
        <p:spPr>
          <a:xfrm>
            <a:off x="380880" y="468792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24"/>
          <p:cNvSpPr/>
          <p:nvPr/>
        </p:nvSpPr>
        <p:spPr>
          <a:xfrm>
            <a:off x="380880" y="563256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5"/>
          <p:cNvSpPr/>
          <p:nvPr/>
        </p:nvSpPr>
        <p:spPr>
          <a:xfrm>
            <a:off x="380880" y="6297480"/>
            <a:ext cx="8229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26"/>
          <p:cNvSpPr/>
          <p:nvPr/>
        </p:nvSpPr>
        <p:spPr>
          <a:xfrm>
            <a:off x="380880" y="2133720"/>
            <a:ext cx="0" cy="41637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27"/>
          <p:cNvSpPr/>
          <p:nvPr/>
        </p:nvSpPr>
        <p:spPr>
          <a:xfrm>
            <a:off x="3124080" y="2133720"/>
            <a:ext cx="0" cy="416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28"/>
          <p:cNvSpPr/>
          <p:nvPr/>
        </p:nvSpPr>
        <p:spPr>
          <a:xfrm>
            <a:off x="5867280" y="2133720"/>
            <a:ext cx="0" cy="416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29"/>
          <p:cNvSpPr/>
          <p:nvPr/>
        </p:nvSpPr>
        <p:spPr>
          <a:xfrm>
            <a:off x="8610480" y="2133720"/>
            <a:ext cx="0" cy="41637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numéro de diapositive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F6B1-0D7C-4E5A-AD33-A68DCB0D504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V Les principes comptab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bjectif d’image fidè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incipe de régular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incipe de sincér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incipe de pru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incipe de permanence des méth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incipe de non compen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incipe d’importance rel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incipe de continuité d’explo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incipe d’indépendance des exerc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Espace réservé du numéro de diapositive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73BE-07CE-4219-B3F0-F7A94EFE76F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I  De l’intérêt de la normalisation 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dicter des normes d’application généra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our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e comparaison des infor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e lecture facilitée des comp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meilleur 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Espace réservé du numéro de diapositive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F51B-0DC7-4F1C-BB2D-D18C21B308F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II Les sources de la normalisation comptable 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2.1. Les sources nationa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parl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o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=&gt; Code de comm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 : Loi comptable du 30 avril 19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gouvern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ets, arrê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 : Décret comptable du 29 novembre 19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Espace réservé du numéro de diapositive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B426-D882-4D4E-B15C-107D0504CCF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Comité de réglementation comptable (CR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hargé de l’élaboration des normes comp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ouvoir de réglem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tatue sur les avis du CN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Conseil National de la Comptabilité (CN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hargé de l’élaboration du Plan comptable général (PC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vis et recomma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numéro de diapositive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E05E-D626-46A2-932E-FF73B182D4C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62120" y="533160"/>
            <a:ext cx="80769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’Autorité des marchés financiers (AMF) anciennement Commission des opérations de Bourse (CO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otection de l’éparg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nformation des investiss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on fonctionnement des march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es règlements s’imposent aux sociétés coté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Image 3" descr="WhatsApp Image 2016-11-27 at 18.39.03.jpeg"/>
          <p:cNvPicPr/>
          <p:nvPr/>
        </p:nvPicPr>
        <p:blipFill>
          <a:blip r:embed="rId1"/>
          <a:stretch/>
        </p:blipFill>
        <p:spPr>
          <a:xfrm>
            <a:off x="6929280" y="5715000"/>
            <a:ext cx="20005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u numéro de diapositive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E200-6973-46D9-8B77-D921C65C8A9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2.2. Les sources internat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n Europ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ir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4ème directive (comptes sociaux) 19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7ème directive (comptes consolidés) 19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8ème directive (contrôleurs légaux)19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e nouvelle stratégie de normalisation comptable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aire appliquer des normes internationales aux entrepri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numéro de diapositive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C202-05B4-4674-9B7D-EB99363C67A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Pourquoi construire des             normes internationale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éduire les coûts de retrai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méliorer l’information des investiss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International Accounting Standards Board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(IAS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Espace réservé du numéro de diapositive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553A-94C1-49F3-8980-6848F94A421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28240" y="152280"/>
            <a:ext cx="8915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Qui est l’IASB ?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 organisme regroupant les représentants des professions comptables de plus de 90 pays, tous membres de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l’International Federation of Accountant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(IFA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rmes IAS (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International Accounting Standard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 et IFRS (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International Financial Reporting Standard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epuis 20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puis le 1er janvier 2005 : référentiel pour les sociétés européennes cot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ASB plutôt que FASB (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Financial Accounting Standards Board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numéro de diapositive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CB72-6668-44F7-A3F5-2FEB120407E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28240" y="152280"/>
            <a:ext cx="8915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II Les professionnels comptabl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garants de l’intégrité du système compt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’expert compt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ôle de ré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ôle d’assistance et de conse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rdre des Experts Comptables (OE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commissaire aux comptes (CA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ission légale de vérification des comp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ertifie les comp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ignale les irrégularit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mpagnie Nationale des Commissaires aux comptes (CN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1T09:57:22Z</dcterms:created>
  <dc:creator>MIGNON</dc:creator>
  <dc:description/>
  <dc:language>en-US</dc:language>
  <cp:lastModifiedBy>Lamiae</cp:lastModifiedBy>
  <cp:lastPrinted>2004-02-23T09:51:19Z</cp:lastPrinted>
  <dcterms:modified xsi:type="dcterms:W3CDTF">2017-07-06T01:14:29Z</dcterms:modified>
  <cp:revision>318</cp:revision>
  <dc:subject/>
  <dc:title>     INTRODUCTION A L ’ANALYSE FINANCIERE</dc:title>
</cp:coreProperties>
</file>