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EEC-BBF4-4E82-AD1D-8ABC13E6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384-92DB-4081-B615-229A2BC6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C43-BEDA-4E9D-818F-D2DC2D45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D06-163F-486F-B45A-9C7E085C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D8F6-F376-4AC7-95D3-C1897489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18DF-4FD1-460A-AD2E-D4BEA66A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7A12-AA99-4341-A295-5FD0B875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ADBC-F33D-46A6-ACB1-8B601FC7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E643-0CD0-4503-956B-CFFB8AF6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62B4-A589-4FCD-A387-A447D441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E70A-0E6A-4095-B074-62005FA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D7B-304C-4F9A-A400-E6DAACAA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5438-C838-48BC-A4C4-AB8DEAC3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0C82-FA44-4DD6-AE39-25F51686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1448-4C73-43F9-87F9-799E6626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DE09-48D1-4FE6-B79F-BE2BE45B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B7B0-7A63-4B86-B0A2-739A737D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FD2-8115-4B79-BA4A-C53D156C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B11-4B94-412B-B846-22F73F36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31D-1605-4603-B1E6-73D672BF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A76-7B91-47E5-AAB1-DA222F3D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FF2-1B0A-4E3F-9687-E1A23B6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290-49AF-4B9F-BA97-6D8B0A4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C15-EB2C-46E8-BB05-EF04940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527B-1DA1-48BA-A519-CD084C629AA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4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4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E62-CDD9-4837-A312-F3E16E4E56C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inances.gouv.fr/CNCompt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numéro de diapositive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CE41-D91C-4555-8CE2-510B4FF640B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omptabilité générale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et normalisat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Image 3" descr="WhatsApp Image 2016-11-27 at 18.39.03.jpeg"/>
          <p:cNvPicPr/>
          <p:nvPr/>
        </p:nvPicPr>
        <p:blipFill>
          <a:blip r:embed="rId1"/>
          <a:stretch/>
        </p:blipFill>
        <p:spPr>
          <a:xfrm>
            <a:off x="6643800" y="500040"/>
            <a:ext cx="20001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F4FC-285F-4C60-807A-70A82E45442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V 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 Plan Comptable Général (PCG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1. Présentation du PCG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èglement 99-03 du 29 avril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se à jour réguliè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finances.gouv.fr/CNCompt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 un droit comptable évolu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1D3E-1246-4179-96C7-6CAA58AF63C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 Plan Comptable Géné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1 : objet et principes de la comptabi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2 : définition des actifs, des passifs, des produits et des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3 : règles de comptabilisation et d’évaluation des actifs, passifs, charges et pro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4 : tenue, structure et fonctionnement des com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5 : Documents de synthè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4377-3D46-4865-ABE9-33A9BB6FE4F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Trois systèmes de présentation des documents de synthè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abrég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développ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4" descr="WhatsApp Image 2016-11-27 at 18.39.03.jpeg"/>
          <p:cNvPicPr/>
          <p:nvPr/>
        </p:nvPicPr>
        <p:blipFill>
          <a:blip r:embed="rId1"/>
          <a:stretch/>
        </p:blipFill>
        <p:spPr>
          <a:xfrm>
            <a:off x="6429240" y="5286240"/>
            <a:ext cx="20005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F3E9-E40B-443F-8550-43A242CBE80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4.2. Le plan des comptes du PC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codification déci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A46D-CE87-4E2B-977E-AC56D3198CC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omptes de bila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8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es 1 à 5 (remplir les rubriques du bilan simplifi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7620120" y="5241960"/>
            <a:ext cx="9144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4495680" y="5241960"/>
            <a:ext cx="3124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3124080" y="5241960"/>
            <a:ext cx="1371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457200" y="5241960"/>
            <a:ext cx="2666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7620120" y="4516560"/>
            <a:ext cx="914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495680" y="4516560"/>
            <a:ext cx="312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3124080" y="4516560"/>
            <a:ext cx="1371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457200" y="4516560"/>
            <a:ext cx="2666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7620120" y="3763800"/>
            <a:ext cx="914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4495680" y="3763800"/>
            <a:ext cx="31244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3124080" y="3763800"/>
            <a:ext cx="1371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457200" y="3763800"/>
            <a:ext cx="26668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7620120" y="3038400"/>
            <a:ext cx="914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419720" y="3048120"/>
            <a:ext cx="31240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124080" y="3038400"/>
            <a:ext cx="1371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7200" y="3038400"/>
            <a:ext cx="2666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20120" y="2286000"/>
            <a:ext cx="9144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495680" y="2286000"/>
            <a:ext cx="3124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124080" y="2286000"/>
            <a:ext cx="1371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57200" y="2286000"/>
            <a:ext cx="2666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6"/>
          <p:cNvSpPr/>
          <p:nvPr/>
        </p:nvSpPr>
        <p:spPr>
          <a:xfrm>
            <a:off x="457200" y="303840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7"/>
          <p:cNvSpPr/>
          <p:nvPr/>
        </p:nvSpPr>
        <p:spPr>
          <a:xfrm>
            <a:off x="457200" y="376380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8"/>
          <p:cNvSpPr/>
          <p:nvPr/>
        </p:nvSpPr>
        <p:spPr>
          <a:xfrm>
            <a:off x="457200" y="451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9"/>
          <p:cNvSpPr/>
          <p:nvPr/>
        </p:nvSpPr>
        <p:spPr>
          <a:xfrm>
            <a:off x="457200" y="52419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0"/>
          <p:cNvSpPr/>
          <p:nvPr/>
        </p:nvSpPr>
        <p:spPr>
          <a:xfrm>
            <a:off x="457200" y="5994360"/>
            <a:ext cx="80773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1"/>
          <p:cNvSpPr/>
          <p:nvPr/>
        </p:nvSpPr>
        <p:spPr>
          <a:xfrm>
            <a:off x="457200" y="2286000"/>
            <a:ext cx="0" cy="370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3124080" y="2286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4495680" y="2286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4"/>
          <p:cNvSpPr/>
          <p:nvPr/>
        </p:nvSpPr>
        <p:spPr>
          <a:xfrm>
            <a:off x="7620120" y="2286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>
            <a:off x="8534520" y="2286000"/>
            <a:ext cx="0" cy="370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7"/>
          <p:cNvSpPr/>
          <p:nvPr/>
        </p:nvSpPr>
        <p:spPr>
          <a:xfrm>
            <a:off x="3124080" y="2286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457200" y="2286000"/>
            <a:ext cx="2666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8"/>
          <p:cNvSpPr/>
          <p:nvPr/>
        </p:nvSpPr>
        <p:spPr>
          <a:xfrm>
            <a:off x="4495680" y="2286000"/>
            <a:ext cx="40388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CE76-FA44-4BBD-812F-FD6E6593F5D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omptes de résult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12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tes 6 et 7 (remplir les rubriques du compte de résultat simplifi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5867280" y="563256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3124080" y="563256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380880" y="563256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5791320" y="472428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124080" y="468792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veau excepti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380880" y="468792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5867280" y="374328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124080" y="374328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veau financ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80880" y="374328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5867280" y="279864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124080" y="279864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veau explo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80880" y="279864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867280" y="213372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d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124080" y="213372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0880" y="213372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380880" y="27986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380880" y="37432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380880" y="46879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380880" y="56325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5"/>
          <p:cNvSpPr/>
          <p:nvPr/>
        </p:nvSpPr>
        <p:spPr>
          <a:xfrm>
            <a:off x="380880" y="629748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380880" y="2133720"/>
            <a:ext cx="0" cy="4163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3124080" y="2133720"/>
            <a:ext cx="0" cy="41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>
            <a:off x="5867280" y="2133720"/>
            <a:ext cx="0" cy="41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9"/>
          <p:cNvSpPr/>
          <p:nvPr/>
        </p:nvSpPr>
        <p:spPr>
          <a:xfrm>
            <a:off x="8610480" y="2133720"/>
            <a:ext cx="0" cy="4163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6EA9-B1C6-4657-83B2-2FA993D0E9C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 Les principes compt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bjectif d’image fidè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régula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sincé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pru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permanence des 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non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’importanc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continuité d’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’indépendance des 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4E89-4E9F-4481-A3C4-D5A832E0503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  De l’intérêt de la normalisation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cter des normes d’application génér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comparaison des 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lecture facilitée des comp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meilleur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D7FD-5B9D-49CE-9C13-7E6255BBF38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I Les sources de la normalisation comptable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1. Les sources nationa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Code de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 : Loi comptable du 30 avril 1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gouver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ets, arrê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 : Décret comptable du 29 novembre 1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1B6D-D8CC-4B38-A5B1-4F78884BF39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omité de réglementation comptable (CR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rgé de l’élaboration des normes comp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voir de rég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tue sur les avis du C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onseil National de la Comptabilité (C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rgé de l’élaboration du Plan comptable général (PC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vis et recomma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D283-E375-44F6-BBB1-7B40A62761B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Autorité des marchés financiers (AMF) anciennement Commission des opérations de Bourse (CO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tection de l’épar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formation des investiss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on fonctionnement des march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s règlements s’imposent aux sociétés cot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age 3" descr="WhatsApp Image 2016-11-27 at 18.39.03.jpeg"/>
          <p:cNvPicPr/>
          <p:nvPr/>
        </p:nvPicPr>
        <p:blipFill>
          <a:blip r:embed="rId1"/>
          <a:stretch/>
        </p:blipFill>
        <p:spPr>
          <a:xfrm>
            <a:off x="6929280" y="5715000"/>
            <a:ext cx="20005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6D6A-2E71-4EAD-AE23-8128EC9365A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2. Les sources internat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Eur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r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ème directive (comptes sociaux) 1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ème directive (comptes consolidés)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ème directive (contrôleurs légaux)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nouvelle stratégie de normalisation comptabl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ire appliquer des normes internationales aux entrepr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9726-8ED5-485A-8785-9FC60705385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Pourquoi construire des             normes international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duire les coûts de retrai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méliorer l’information des investiss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International Accounting Standards Board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IAS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8F86-69FC-4F54-9C60-386A5706CD3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Qui est l’IASB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organisme regroupant les représentants des professions comptables de plus de 90 pays, tous membres de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l’International Federation of Accountant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IF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rmes IAS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International Accounting Standar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et IFRS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International Financial Reporting Standard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puis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puis le 1er janvier 2005 : référentiel pour les sociétés européennes c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ASB plutôt que FASB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Financial Accounting Standards Boar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6F0-9739-45E6-8E26-84F2396C857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II Les professionnels comptab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ants de l’intégrité du système comp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expert comp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ôle de ré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ôle d’assistance et de cons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dre des Experts Comptables (O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mmissaire aux comptes (C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sion légale de vérification des com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rtifie les com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gnale les irrégulari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agnie Nationale des Commissaires aux comptes (CN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09:57:22Z</dcterms:created>
  <dc:creator>MIGNON</dc:creator>
  <dc:description/>
  <dc:language>en-US</dc:language>
  <cp:lastModifiedBy>Lamiae</cp:lastModifiedBy>
  <cp:lastPrinted>2004-02-23T09:51:19Z</cp:lastPrinted>
  <dcterms:modified xsi:type="dcterms:W3CDTF">2017-07-06T01:14:29Z</dcterms:modified>
  <cp:revision>318</cp:revision>
  <dc:subject/>
  <dc:title>     INTRODUCTION A L ’ANALYSE FINANCIERE</dc:title>
</cp:coreProperties>
</file>