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2E7-7CD0-4CD4-974C-8E7436B236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837-B5F2-4863-BF4D-F7D66FE6FE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2CD-0BA2-475B-B382-6A4B5B820F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B10B-F5C3-43AB-BF2B-9823947C46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618-3CB4-4724-A107-BFEDF41EB2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50C-A5A7-4FC0-933B-DE6A34C98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34F-D5F7-4275-A13C-C55278F76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EFF9-EA30-4077-8765-7F403A5782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EBC-6976-4E09-BC42-78B8A567C2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EB49-B841-4F2A-8637-EDB6D2577A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7352-43E0-426A-883B-A14F96424D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8DE-254A-4134-B1CB-F263CFCAD0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805-DEEB-4A68-AD9B-4FD5ADC6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9AD-562B-46CB-99F6-101B719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7C5-3374-4094-8E5B-5FBB3578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D3D-7AA1-467C-918D-0D6515BC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D741-293C-4B0C-9099-6F8A3CAB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B40-1433-417D-B22C-B2D5540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0AD-FC0F-4E00-BFB2-5C7AC74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42C9-2AEF-4520-A467-2C6E696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7F7F-6589-49C7-9794-54F9EC2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3839-DEAE-4632-8D17-25E46E5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8B7-DF76-48BB-BDFB-68A8F35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827-4E23-43FE-B42C-8773A52E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BED0-AFF4-45C9-842F-598A46C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2220-C74A-4478-B71D-52E7270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0865-97F3-43B2-9A8E-60A5852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ABFA-1A93-452F-99E4-A04EBB5F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C86-7611-417C-B216-EA4956F2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1FC-F548-447C-89ED-E031EF0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594-C23E-4AC6-9D3B-FCA7254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3B6-E501-4BA7-927B-A38FC369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71C-A92C-43E5-81F2-53B6234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635-3F71-49E4-874F-862D4CE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AC6-F879-4514-8676-306D390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F72-BE80-4CE9-8A27-F98D7B18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FCE-38F8-4593-B1A1-5CFE24D047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DC51-F213-47AA-91C9-8E0F2A3C166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FC7-5A99-4034-A2B6-240FC43BA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7F54-B46D-4A9B-8718-F02CD85E928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6"/>
          <p:cNvSpPr/>
          <p:nvPr/>
        </p:nvSpPr>
        <p:spPr>
          <a:xfrm>
            <a:off x="1160280" y="2811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Projet Social 2009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 rot="16200000">
            <a:off x="4533840" y="952560"/>
            <a:ext cx="76320" cy="9144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51160" y="55627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c81f3b"/>
                </a:solidFill>
                <a:latin typeface="Arial"/>
              </a:rPr>
              <a:t>8 Juillet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BORDEAUX JOIE"/>
          <p:cNvPicPr/>
          <p:nvPr/>
        </p:nvPicPr>
        <p:blipFill>
          <a:blip r:embed="rId2"/>
          <a:stretch/>
        </p:blipFill>
        <p:spPr>
          <a:xfrm>
            <a:off x="2133720" y="4062240"/>
            <a:ext cx="4267080" cy="2795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2"/>
          <p:cNvSpPr/>
          <p:nvPr/>
        </p:nvSpPr>
        <p:spPr>
          <a:xfrm>
            <a:off x="6324480" y="1295280"/>
            <a:ext cx="76320" cy="5562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6404760" y="51055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81f3b"/>
                </a:solidFill>
                <a:latin typeface="Arial"/>
              </a:rPr>
              <a:t>GROUPE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539280" y="2438280"/>
            <a:ext cx="54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81f3b"/>
                </a:solidFill>
                <a:latin typeface="Arial"/>
              </a:rPr>
              <a:t>PRESENTATION DE LA DEM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81f3b"/>
                </a:solidFill>
                <a:latin typeface="Arial"/>
              </a:rPr>
              <a:t>DE CONSULT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ogobordeaux"/>
          <p:cNvPicPr/>
          <p:nvPr/>
        </p:nvPicPr>
        <p:blipFill>
          <a:blip r:embed="rId3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EC45-371C-42B8-A976-85DF9F45FB2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logojpgBCCA"/>
          <p:cNvPicPr/>
          <p:nvPr/>
        </p:nvPicPr>
        <p:blipFill>
          <a:blip r:embed="rId1"/>
          <a:stretch/>
        </p:blipFill>
        <p:spPr>
          <a:xfrm>
            <a:off x="7404120" y="6477120"/>
            <a:ext cx="1663560" cy="29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838080" y="228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Calibri"/>
              </a:rPr>
              <a:t>Projet Social 2009-2012          </a:t>
            </a:r>
            <a:r>
              <a:rPr b="1" lang="fr-FR" sz="2400" spc="-1" strike="noStrike">
                <a:solidFill>
                  <a:srgbClr val="728fff"/>
                </a:solidFill>
                <a:latin typeface="Calibri"/>
              </a:rPr>
              <a:t>LES PRECONISATIONS</a:t>
            </a:r>
            <a:r>
              <a:rPr b="1" lang="fr-FR" sz="2400" spc="-1" strike="noStrike">
                <a:solidFill>
                  <a:srgbClr val="728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ZoneTexte 7"/>
          <p:cNvGrpSpPr/>
          <p:nvPr/>
        </p:nvGrpSpPr>
        <p:grpSpPr>
          <a:xfrm>
            <a:off x="146160" y="5022720"/>
            <a:ext cx="8924760" cy="1335240"/>
            <a:chOff x="146160" y="5022720"/>
            <a:chExt cx="8924760" cy="1335240"/>
          </a:xfrm>
        </p:grpSpPr>
        <p:pic>
          <p:nvPicPr>
            <p:cNvPr id="224" name="ZoneTexte 7" descr=""/>
            <p:cNvPicPr/>
            <p:nvPr/>
          </p:nvPicPr>
          <p:blipFill>
            <a:blip r:embed="rId3"/>
            <a:stretch/>
          </p:blipFill>
          <p:spPr>
            <a:xfrm>
              <a:off x="146160" y="5022720"/>
              <a:ext cx="89247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52280" y="5029200"/>
              <a:ext cx="8915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 BORDEAUX, MON AVIS COMPTE / BORDEAUX PEUT COMPTER SUR MOI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Une meilleure écoute pour de meilleurs service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ser le cadre de la concer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méliorer la culture de concertation des services avec les habita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biliser les habit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ZoneTexte 10"/>
          <p:cNvGrpSpPr/>
          <p:nvPr/>
        </p:nvGrpSpPr>
        <p:grpSpPr>
          <a:xfrm>
            <a:off x="146160" y="835200"/>
            <a:ext cx="8924760" cy="1085760"/>
            <a:chOff x="146160" y="835200"/>
            <a:chExt cx="8924760" cy="1085760"/>
          </a:xfrm>
        </p:grpSpPr>
        <p:pic>
          <p:nvPicPr>
            <p:cNvPr id="227" name="ZoneTexte 10" descr=""/>
            <p:cNvPicPr/>
            <p:nvPr/>
          </p:nvPicPr>
          <p:blipFill>
            <a:blip r:embed="rId4"/>
            <a:stretch/>
          </p:blipFill>
          <p:spPr>
            <a:xfrm>
              <a:off x="146160" y="835200"/>
              <a:ext cx="892476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2280" y="838080"/>
              <a:ext cx="8915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ORDEAUX, LA VILLE  QUI VOUS FACILITE LA VIE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Facilitons nous la Ville</a:t>
              </a:r>
              <a:r>
                <a:rPr b="1" lang="en-US" sz="1400" spc="-1" strike="noStrike">
                  <a:solidFill>
                    <a:srgbClr val="3366ff"/>
                  </a:solidFill>
                  <a:latin typeface="Arial"/>
                  <a:ea typeface="Arial"/>
                </a:rPr>
                <a:t>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 accueil amélioré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bordelais mieux accompagn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services plus proches de nos lieux de v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ZoneTexte 11"/>
          <p:cNvGrpSpPr/>
          <p:nvPr/>
        </p:nvGrpSpPr>
        <p:grpSpPr>
          <a:xfrm>
            <a:off x="146160" y="2127240"/>
            <a:ext cx="8924760" cy="1122480"/>
            <a:chOff x="146160" y="2127240"/>
            <a:chExt cx="8924760" cy="1122480"/>
          </a:xfrm>
        </p:grpSpPr>
        <p:pic>
          <p:nvPicPr>
            <p:cNvPr id="230" name="ZoneTexte 11" descr=""/>
            <p:cNvPicPr/>
            <p:nvPr/>
          </p:nvPicPr>
          <p:blipFill>
            <a:blip r:embed="rId5"/>
            <a:stretch/>
          </p:blipFill>
          <p:spPr>
            <a:xfrm>
              <a:off x="146160" y="2127240"/>
              <a:ext cx="89247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52280" y="2133720"/>
              <a:ext cx="8915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'ENTRAIDE A BORDEAUX : PLUS QU'UN SLOGAN, UN MODE DE VIE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Un pour Tous, Tous pour Un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nforcer les réseaux d'entraide et  d'échange dans les quarti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courager les initiatives citoyennes et leur mutual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évelopper les partenariats en faveur des publics fragiles, sans reculer devant la co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lex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ZoneTexte 12"/>
          <p:cNvGrpSpPr/>
          <p:nvPr/>
        </p:nvGrpSpPr>
        <p:grpSpPr>
          <a:xfrm>
            <a:off x="146160" y="3425760"/>
            <a:ext cx="8924760" cy="1335240"/>
            <a:chOff x="146160" y="3425760"/>
            <a:chExt cx="8924760" cy="1335240"/>
          </a:xfrm>
        </p:grpSpPr>
        <p:pic>
          <p:nvPicPr>
            <p:cNvPr id="233" name="ZoneTexte 12" descr=""/>
            <p:cNvPicPr/>
            <p:nvPr/>
          </p:nvPicPr>
          <p:blipFill>
            <a:blip r:embed="rId6"/>
            <a:stretch/>
          </p:blipFill>
          <p:spPr>
            <a:xfrm>
              <a:off x="146160" y="3425760"/>
              <a:ext cx="89247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52280" y="3429000"/>
              <a:ext cx="8915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'AVENTURE DE LA RENCONTRE ENTRE TOUS LES AGES, TOUTES LES CULTURES </a:t>
              </a:r>
              <a:r>
                <a:rPr b="1" lang="en-US" sz="1600" spc="-1" strike="noStrike">
                  <a:solidFill>
                    <a:srgbClr val="cd60a8"/>
                  </a:solidFill>
                  <a:latin typeface="Calibri"/>
                </a:rPr>
                <a:t>: DANS TOUS LES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QUARTIERS DE BORDEAUX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La ville agitatrice de rencontres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mplifier l'impact social et culturel des temps forts organisés par la vil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Valoriser le tissu associatif et la richesse culturelle des quartier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services et équipements publics propices à la rencont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B98-5AF4-4FCF-B8C6-12AE11B835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971800" y="914400"/>
            <a:ext cx="3733920" cy="5202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Démarches simultanées de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85800" y="1600200"/>
            <a:ext cx="2209680" cy="457200"/>
          </a:xfrm>
          <a:prstGeom prst="rect">
            <a:avLst/>
          </a:prstGeom>
          <a:solidFill>
            <a:srgbClr val="eba674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interne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429000" y="1600200"/>
            <a:ext cx="2209680" cy="457200"/>
          </a:xfrm>
          <a:prstGeom prst="rect">
            <a:avLst/>
          </a:prstGeom>
          <a:solidFill>
            <a:srgbClr val="b76b93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théma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324480" y="1600200"/>
            <a:ext cx="2210040" cy="457200"/>
          </a:xfrm>
          <a:prstGeom prst="rect">
            <a:avLst/>
          </a:prstGeom>
          <a:solidFill>
            <a:srgbClr val="9ba74e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1523880" y="2057400"/>
            <a:ext cx="419400" cy="723960"/>
          </a:xfrm>
          <a:prstGeom prst="downArrow">
            <a:avLst>
              <a:gd name="adj1" fmla="val 50000"/>
              <a:gd name="adj2" fmla="val 43155"/>
            </a:avLst>
          </a:prstGeom>
          <a:solidFill>
            <a:srgbClr val="eba674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4381560" y="2057400"/>
            <a:ext cx="419040" cy="723960"/>
          </a:xfrm>
          <a:prstGeom prst="downArrow">
            <a:avLst>
              <a:gd name="adj1" fmla="val 50000"/>
              <a:gd name="adj2" fmla="val 43192"/>
            </a:avLst>
          </a:prstGeom>
          <a:solidFill>
            <a:srgbClr val="b76b93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7162920" y="2057400"/>
            <a:ext cx="419040" cy="723960"/>
          </a:xfrm>
          <a:prstGeom prst="downArrow">
            <a:avLst>
              <a:gd name="adj1" fmla="val 50000"/>
              <a:gd name="adj2" fmla="val 43192"/>
            </a:avLst>
          </a:prstGeom>
          <a:solidFill>
            <a:srgbClr val="9ba74e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80880" y="2895480"/>
            <a:ext cx="2667240" cy="307080"/>
          </a:xfrm>
          <a:prstGeom prst="rect">
            <a:avLst/>
          </a:prstGeom>
          <a:noFill/>
          <a:ln w="63360">
            <a:solidFill>
              <a:srgbClr val="eba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nforcement du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-75240" y="3457440"/>
            <a:ext cx="366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es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a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a vie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ménagement urb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nimation des parcs et jard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ccès aux droits, 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276720" y="2895480"/>
            <a:ext cx="2819160" cy="307080"/>
          </a:xfrm>
          <a:prstGeom prst="rect">
            <a:avLst/>
          </a:prstGeom>
          <a:noFill/>
          <a:ln w="63360">
            <a:solidFill>
              <a:srgbClr val="b76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alyse des besoin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3200400" y="34876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enfance - 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lo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vieill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préca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400800" y="2913120"/>
            <a:ext cx="2209680" cy="307080"/>
          </a:xfrm>
          <a:prstGeom prst="rect">
            <a:avLst/>
          </a:prstGeom>
          <a:noFill/>
          <a:ln w="63360">
            <a:solidFill>
              <a:srgbClr val="9ba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veloppemen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6035040" y="3505320"/>
            <a:ext cx="30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Bordeaux Nord -  Bast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Grand Parc - Paul Dou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Cauderan -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Augustin - V.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Jean - Capuc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Michel - Nansout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1066680" y="5486400"/>
            <a:ext cx="1562400" cy="571680"/>
          </a:xfrm>
          <a:prstGeom prst="octagon">
            <a:avLst>
              <a:gd name="adj" fmla="val 29287"/>
            </a:avLst>
          </a:prstGeom>
          <a:solidFill>
            <a:srgbClr val="eba674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GV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6781680" y="5562720"/>
            <a:ext cx="1454400" cy="571320"/>
          </a:xfrm>
          <a:prstGeom prst="octagon">
            <a:avLst>
              <a:gd name="adj" fmla="val 29287"/>
            </a:avLst>
          </a:prstGeom>
          <a:solidFill>
            <a:srgbClr val="9ba74e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° D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3886200" y="5562720"/>
            <a:ext cx="1454040" cy="571320"/>
          </a:xfrm>
          <a:prstGeom prst="octagon">
            <a:avLst>
              <a:gd name="adj" fmla="val 29287"/>
            </a:avLst>
          </a:prstGeom>
          <a:solidFill>
            <a:srgbClr val="b76b93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° C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BBD-FC75-481C-91BF-2F20EF2D72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45080" y="838080"/>
            <a:ext cx="557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81f3b"/>
                </a:solidFill>
                <a:latin typeface="Arial"/>
              </a:rPr>
              <a:t>Rechercher la contribution des services de la Ville de Borde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49000" y="4781520"/>
            <a:ext cx="4743720" cy="73332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s parcs et jardins et du Jardin Bota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'urbanisme avec le Service « projet urbain 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propreté et de la vie loc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05520" y="1371600"/>
            <a:ext cx="291168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° Groupe : cultur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4716720" y="1521000"/>
            <a:ext cx="425268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° Groupe : la fraternité à tous les âges de la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04920" y="1828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6320" y="1676520"/>
            <a:ext cx="4419360" cy="115956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s affaires cultur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s établissements cultur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développement et de l'action artisti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programmation et de l'accueil des saisons culturelles étrangè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800600" y="1825560"/>
            <a:ext cx="4114800" cy="946440"/>
          </a:xfrm>
          <a:prstGeom prst="rect">
            <a:avLst/>
          </a:prstGeom>
          <a:noFill/>
          <a:ln w="50760">
            <a:solidFill>
              <a:srgbClr val="64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'éducation et de la 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Pôle sen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95400" y="3105000"/>
            <a:ext cx="5619600" cy="52020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° Groupe : Accueil, citoyenneté et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95400" y="3409920"/>
            <a:ext cx="5562360" cy="73332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Direction de l’accueil et de la citoyenne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5940720" y="3381480"/>
            <a:ext cx="2701440" cy="52020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° Groupe : jeunesse, spor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e associativ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3531240" y="5740560"/>
            <a:ext cx="42451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° Groupe : solidarité et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687840" y="6045120"/>
            <a:ext cx="3886200" cy="30708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élégation au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3914640"/>
            <a:ext cx="2590920" cy="115956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jeunesse, des sports et de la vie assoc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152280" y="4476600"/>
            <a:ext cx="5639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° Groupe : espaces publics, aménagement urbain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E6D-264F-433F-AC4E-E9B7DD0A89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52280" y="1447920"/>
            <a:ext cx="379116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° Groupe : cultur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52280" y="1981080"/>
            <a:ext cx="5531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° Groupe : la fraternité à tous les âges de la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171360" y="2514600"/>
            <a:ext cx="68389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° Groupe : Accueil, citoyenneté et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52280" y="3200400"/>
            <a:ext cx="696276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° Groupe : jeunesse, sports, vie associativ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52280" y="4419720"/>
            <a:ext cx="5531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° Groupe : solidarité et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152280" y="3657600"/>
            <a:ext cx="66643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° Groupe : espaces publics, aménagement urbain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4420800" y="14144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32022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911160" y="874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237600" y="914400"/>
            <a:ext cx="53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Les services, les élus et les professionnels mobilis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2895480" y="4952880"/>
            <a:ext cx="4876920" cy="1859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lexion inter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chaqu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icipation des Maires Adj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onseillers Municip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adres du niveau straté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adres interméd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gents opérationn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logojpgBCCA"/>
          <p:cNvPicPr/>
          <p:nvPr/>
        </p:nvPicPr>
        <p:blipFill>
          <a:blip r:embed="rId1"/>
          <a:stretch/>
        </p:blipFill>
        <p:spPr>
          <a:xfrm>
            <a:off x="7238880" y="6400800"/>
            <a:ext cx="1663920" cy="293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911160" y="874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52280" y="1828800"/>
            <a:ext cx="2895840" cy="1257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1° Séquence diagnostic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bulletin de santé du vivre ensemble et les grandes problé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2847960" y="914400"/>
            <a:ext cx="362916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atelier trans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6406560" y="1828800"/>
            <a:ext cx="266796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3° Séquence faisa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capacités d’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’étude de l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isabilité opérationnel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282840" y="1828800"/>
            <a:ext cx="28843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2° Séquence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opportunités d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 améliorer le vi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semble à partir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blé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1"/>
          <p:cNvSpPr/>
          <p:nvPr/>
        </p:nvSpPr>
        <p:spPr>
          <a:xfrm>
            <a:off x="762120" y="3657600"/>
            <a:ext cx="990360" cy="1371600"/>
          </a:xfrm>
          <a:custGeom>
            <a:avLst/>
            <a:gdLst>
              <a:gd name="textAreaLeft" fmla="*/ 132480 w 990360"/>
              <a:gd name="textAreaRight" fmla="*/ 857880 w 99036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2133720" y="3809880"/>
            <a:ext cx="5638680" cy="2057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JECTIFS DE L’ATELIER TRANSVERSAL DU 3 JUIN 2009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olider le diagnostic recueilli lors des ateliers de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 interne des servic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er les principales problématiques à traiter dans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troisième projet soci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D72-A211-41F3-8401-4B2F0E7D2CE9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Diagramme 15" descr=""/>
          <p:cNvPicPr/>
          <p:nvPr/>
        </p:nvPicPr>
        <p:blipFill>
          <a:blip r:embed="rId3"/>
          <a:stretch/>
        </p:blipFill>
        <p:spPr>
          <a:xfrm>
            <a:off x="225360" y="987480"/>
            <a:ext cx="892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92A-0F9E-46B7-ACA6-CA3DEC8B873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7B2-5281-4A3A-8ABA-1BA38356AE6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9A9-BAAE-425C-BC0C-BBDB623FF1DB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6:25:46Z</dcterms:created>
  <dc:creator>Hervé CARRÉ</dc:creator>
  <dc:description/>
  <dc:language>en-US</dc:language>
  <cp:lastModifiedBy>Hervé CARRÉ</cp:lastModifiedBy>
  <dcterms:modified xsi:type="dcterms:W3CDTF">2009-07-08T14:51:35Z</dcterms:modified>
  <cp:revision>17</cp:revision>
  <dc:subject/>
  <dc:title>Présentation PowerPoint</dc:title>
</cp:coreProperties>
</file>