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406E-3F56-4B5B-A42E-114F2D01E1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EF8-5E52-4A35-8A1E-12AE5F8CFE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02C-09E5-408B-A467-50C0AD73C5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B2A-2521-4080-B50B-A1224617C0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29E-FBD5-409C-948F-FA50EA91E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557-D2F5-461F-BB4E-00FA8EE43F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1AE8-A25C-4947-BC77-9795344279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086-76F3-4161-8EE5-EED4B1ED94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613-A95A-47D1-A369-7099FCC432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57C-7580-4EEB-8BD3-E676D944A5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FF6-F423-41A3-99D5-B9CAFC7C63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B0EB-EF51-4295-B1E2-7EE2D39EB9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261-1651-4A81-A2A7-4B362BA4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76E-6836-4291-A592-14599968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8A4-306B-4183-B5B5-1592689C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F46-4D82-44A7-AEAC-4CCF73DB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697-FC5D-4DE0-B033-32250985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156A-72CF-4E6B-B274-219B465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D1CD-759A-49D7-AE1C-AB0321A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3BBA-EA0C-4045-A5B8-6D3DA43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9A0-1F83-4015-BA7F-75C5740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BE70-02BE-49A1-97A4-5B6D171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5DC-F4E7-4317-9613-D02D1B0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B9C-CE27-4E73-838C-BF597F9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9BA-8881-4539-991A-8082668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477E-BCC6-498D-96D8-FC7A1A9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6B3A-53FD-4963-A714-BD71979E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478-4DE4-4D5D-AC0B-BAB9C3DE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5820-C52A-4132-AA2C-AA3085C2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2B9-43B0-4C8E-A2FB-37BB4E5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CD4-CA3D-4303-A53E-8209D65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5CA-1C16-48E6-849D-F097BAD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274-3E5C-4223-BA1D-3A4EF200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871-FFCB-4E03-9E51-4C26740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8F6-5711-4BDB-8A29-9F637614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61B-7252-4D88-AC67-B029401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63A-90A2-442F-AA90-64D166FABA4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876-8581-4F88-BB3C-7ED6FBB0F6B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C7D8-9CAA-4174-9BC0-704EA54AF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3C0E-5554-422E-873B-91632150C28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6"/>
          <p:cNvSpPr/>
          <p:nvPr/>
        </p:nvSpPr>
        <p:spPr>
          <a:xfrm>
            <a:off x="1160280" y="2811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Projet Social 2009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 rot="16200000">
            <a:off x="4533840" y="952560"/>
            <a:ext cx="76320" cy="9144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51160" y="55627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c81f3b"/>
                </a:solidFill>
                <a:latin typeface="Arial"/>
              </a:rPr>
              <a:t>8 Juillet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BORDEAUX JOIE"/>
          <p:cNvPicPr/>
          <p:nvPr/>
        </p:nvPicPr>
        <p:blipFill>
          <a:blip r:embed="rId2"/>
          <a:stretch/>
        </p:blipFill>
        <p:spPr>
          <a:xfrm>
            <a:off x="2133720" y="4062240"/>
            <a:ext cx="4267080" cy="2795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2"/>
          <p:cNvSpPr/>
          <p:nvPr/>
        </p:nvSpPr>
        <p:spPr>
          <a:xfrm>
            <a:off x="6324480" y="1295280"/>
            <a:ext cx="76320" cy="5562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6404760" y="51055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81f3b"/>
                </a:solidFill>
                <a:latin typeface="Arial"/>
              </a:rPr>
              <a:t>GROUPE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539280" y="2438280"/>
            <a:ext cx="54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81f3b"/>
                </a:solidFill>
                <a:latin typeface="Arial"/>
              </a:rPr>
              <a:t>PRESENTATION DE LA DEM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81f3b"/>
                </a:solidFill>
                <a:latin typeface="Arial"/>
              </a:rPr>
              <a:t>DE CONSULTATION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ogobordeaux"/>
          <p:cNvPicPr/>
          <p:nvPr/>
        </p:nvPicPr>
        <p:blipFill>
          <a:blip r:embed="rId3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5A2-C7B2-47E3-AA51-3B3CD0F3624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logojpgBCCA"/>
          <p:cNvPicPr/>
          <p:nvPr/>
        </p:nvPicPr>
        <p:blipFill>
          <a:blip r:embed="rId1"/>
          <a:stretch/>
        </p:blipFill>
        <p:spPr>
          <a:xfrm>
            <a:off x="7404120" y="6477120"/>
            <a:ext cx="1663560" cy="29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838080" y="228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Calibri"/>
              </a:rPr>
              <a:t>Projet Social 2009-2012          </a:t>
            </a:r>
            <a:r>
              <a:rPr b="1" lang="fr-FR" sz="2400" spc="-1" strike="noStrike">
                <a:solidFill>
                  <a:srgbClr val="728fff"/>
                </a:solidFill>
                <a:latin typeface="Calibri"/>
              </a:rPr>
              <a:t>LES PRECONISATIONS</a:t>
            </a:r>
            <a:r>
              <a:rPr b="1" lang="fr-FR" sz="2400" spc="-1" strike="noStrike">
                <a:solidFill>
                  <a:srgbClr val="728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ZoneTexte 7"/>
          <p:cNvGrpSpPr/>
          <p:nvPr/>
        </p:nvGrpSpPr>
        <p:grpSpPr>
          <a:xfrm>
            <a:off x="146160" y="5022720"/>
            <a:ext cx="8924760" cy="1335240"/>
            <a:chOff x="146160" y="5022720"/>
            <a:chExt cx="8924760" cy="1335240"/>
          </a:xfrm>
        </p:grpSpPr>
        <p:pic>
          <p:nvPicPr>
            <p:cNvPr id="224" name="ZoneTexte 7" descr=""/>
            <p:cNvPicPr/>
            <p:nvPr/>
          </p:nvPicPr>
          <p:blipFill>
            <a:blip r:embed="rId3"/>
            <a:stretch/>
          </p:blipFill>
          <p:spPr>
            <a:xfrm>
              <a:off x="146160" y="5022720"/>
              <a:ext cx="89247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52280" y="5029200"/>
              <a:ext cx="8915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 BORDEAUX, MON AVIS COMPTE / BORDEAUX PEUT COMPTER SUR MOI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Une meilleure écoute pour de meilleurs service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ser le cadre de la concer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méliorer la culture de concertation des services avec les habita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biliser les habita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ZoneTexte 10"/>
          <p:cNvGrpSpPr/>
          <p:nvPr/>
        </p:nvGrpSpPr>
        <p:grpSpPr>
          <a:xfrm>
            <a:off x="146160" y="835200"/>
            <a:ext cx="8924760" cy="1085760"/>
            <a:chOff x="146160" y="835200"/>
            <a:chExt cx="8924760" cy="1085760"/>
          </a:xfrm>
        </p:grpSpPr>
        <p:pic>
          <p:nvPicPr>
            <p:cNvPr id="227" name="ZoneTexte 10" descr=""/>
            <p:cNvPicPr/>
            <p:nvPr/>
          </p:nvPicPr>
          <p:blipFill>
            <a:blip r:embed="rId4"/>
            <a:stretch/>
          </p:blipFill>
          <p:spPr>
            <a:xfrm>
              <a:off x="146160" y="835200"/>
              <a:ext cx="892476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52280" y="838080"/>
              <a:ext cx="8915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ORDEAUX, LA VILLE  QUI VOUS FACILITE LA VIE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Calibri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Facilitons nous la Ville</a:t>
              </a:r>
              <a:r>
                <a:rPr b="1" lang="en-US" sz="1400" spc="-1" strike="noStrike">
                  <a:solidFill>
                    <a:srgbClr val="3366ff"/>
                  </a:solidFill>
                  <a:latin typeface="Arial"/>
                  <a:ea typeface="Arial"/>
                </a:rPr>
                <a:t>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 accueil amélioré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bordelais mieux accompagn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services plus proches de nos lieux de v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ZoneTexte 11"/>
          <p:cNvGrpSpPr/>
          <p:nvPr/>
        </p:nvGrpSpPr>
        <p:grpSpPr>
          <a:xfrm>
            <a:off x="146160" y="2127240"/>
            <a:ext cx="8924760" cy="1122480"/>
            <a:chOff x="146160" y="2127240"/>
            <a:chExt cx="8924760" cy="1122480"/>
          </a:xfrm>
        </p:grpSpPr>
        <p:pic>
          <p:nvPicPr>
            <p:cNvPr id="230" name="ZoneTexte 11" descr=""/>
            <p:cNvPicPr/>
            <p:nvPr/>
          </p:nvPicPr>
          <p:blipFill>
            <a:blip r:embed="rId5"/>
            <a:stretch/>
          </p:blipFill>
          <p:spPr>
            <a:xfrm>
              <a:off x="146160" y="2127240"/>
              <a:ext cx="89247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52280" y="2133720"/>
              <a:ext cx="8915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'ENTRAIDE A BORDEAUX : PLUS QU'UN SLOGAN, UN MODE DE VIE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Un pour Tous, Tous pour Un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nforcer les réseaux d'entraide et  d'échange dans les quarti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courager les initiatives citoyennes et leur mutualis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évelopper les partenariats en faveur des publics fragiles, sans reculer devant la com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lex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ZoneTexte 12"/>
          <p:cNvGrpSpPr/>
          <p:nvPr/>
        </p:nvGrpSpPr>
        <p:grpSpPr>
          <a:xfrm>
            <a:off x="146160" y="3425760"/>
            <a:ext cx="8924760" cy="1335240"/>
            <a:chOff x="146160" y="3425760"/>
            <a:chExt cx="8924760" cy="1335240"/>
          </a:xfrm>
        </p:grpSpPr>
        <p:pic>
          <p:nvPicPr>
            <p:cNvPr id="233" name="ZoneTexte 12" descr=""/>
            <p:cNvPicPr/>
            <p:nvPr/>
          </p:nvPicPr>
          <p:blipFill>
            <a:blip r:embed="rId6"/>
            <a:stretch/>
          </p:blipFill>
          <p:spPr>
            <a:xfrm>
              <a:off x="146160" y="3425760"/>
              <a:ext cx="89247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52280" y="3429000"/>
              <a:ext cx="8915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'AVENTURE DE LA RENCONTRE ENTRE TOUS LES AGES, TOUTES LES CULTURES </a:t>
              </a:r>
              <a:r>
                <a:rPr b="1" lang="en-US" sz="1600" spc="-1" strike="noStrike">
                  <a:solidFill>
                    <a:srgbClr val="cd60a8"/>
                  </a:solidFill>
                  <a:latin typeface="Calibri"/>
                </a:rPr>
                <a:t>: DANS TOUS LES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QUARTIERS DE BORDEAUX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3366ff"/>
                  </a:solidFill>
                  <a:latin typeface="Arial"/>
                  <a:ea typeface="Arial"/>
                </a:rPr>
                <a:t>La ville agitatrice de rencontres 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mplifier l'impact social et culturel des temps forts organisés par la vil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Valoriser le tissu associatif et la richesse culturelle des quartier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s services et équipements publics propices à la rencont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F4D8-0BC2-49B4-9F42-C310DF39C0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971800" y="914400"/>
            <a:ext cx="3733920" cy="52020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Démarches simultanées de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85800" y="1600200"/>
            <a:ext cx="2209680" cy="457200"/>
          </a:xfrm>
          <a:prstGeom prst="rect">
            <a:avLst/>
          </a:prstGeom>
          <a:solidFill>
            <a:srgbClr val="eba674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interne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429000" y="1600200"/>
            <a:ext cx="2209680" cy="457200"/>
          </a:xfrm>
          <a:prstGeom prst="rect">
            <a:avLst/>
          </a:prstGeom>
          <a:solidFill>
            <a:srgbClr val="b76b93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théma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324480" y="1600200"/>
            <a:ext cx="2210040" cy="457200"/>
          </a:xfrm>
          <a:prstGeom prst="rect">
            <a:avLst/>
          </a:prstGeom>
          <a:solidFill>
            <a:srgbClr val="9ba74e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ultation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1523880" y="2057400"/>
            <a:ext cx="419400" cy="723960"/>
          </a:xfrm>
          <a:prstGeom prst="downArrow">
            <a:avLst>
              <a:gd name="adj1" fmla="val 50000"/>
              <a:gd name="adj2" fmla="val 43155"/>
            </a:avLst>
          </a:prstGeom>
          <a:solidFill>
            <a:srgbClr val="eba674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4381560" y="2057400"/>
            <a:ext cx="419040" cy="723960"/>
          </a:xfrm>
          <a:prstGeom prst="downArrow">
            <a:avLst>
              <a:gd name="adj1" fmla="val 50000"/>
              <a:gd name="adj2" fmla="val 43192"/>
            </a:avLst>
          </a:prstGeom>
          <a:solidFill>
            <a:srgbClr val="b76b93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7162920" y="2057400"/>
            <a:ext cx="419040" cy="723960"/>
          </a:xfrm>
          <a:prstGeom prst="downArrow">
            <a:avLst>
              <a:gd name="adj1" fmla="val 50000"/>
              <a:gd name="adj2" fmla="val 43192"/>
            </a:avLst>
          </a:prstGeom>
          <a:solidFill>
            <a:srgbClr val="9ba74e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80880" y="2895480"/>
            <a:ext cx="2667240" cy="307080"/>
          </a:xfrm>
          <a:prstGeom prst="rect">
            <a:avLst/>
          </a:prstGeom>
          <a:noFill/>
          <a:ln w="63360">
            <a:solidFill>
              <a:srgbClr val="eba6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nforcement du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-75240" y="3457440"/>
            <a:ext cx="366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es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a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a vie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ménagement urb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nimation des parcs et jard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88d62"/>
                </a:solidFill>
                <a:latin typeface="Arial"/>
              </a:rPr>
              <a:t>l’accès aux droits, 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276720" y="2895480"/>
            <a:ext cx="2819160" cy="307080"/>
          </a:xfrm>
          <a:prstGeom prst="rect">
            <a:avLst/>
          </a:prstGeom>
          <a:noFill/>
          <a:ln w="63360">
            <a:solidFill>
              <a:srgbClr val="b76b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alyse des besoin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3200400" y="348768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enfance - 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lo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vieill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préca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b76b93"/>
                </a:solidFill>
                <a:latin typeface="Arial"/>
              </a:rPr>
              <a:t>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400800" y="2913120"/>
            <a:ext cx="2209680" cy="307080"/>
          </a:xfrm>
          <a:prstGeom prst="rect">
            <a:avLst/>
          </a:prstGeom>
          <a:noFill/>
          <a:ln w="63360">
            <a:solidFill>
              <a:srgbClr val="9ba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veloppemen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6035040" y="3505320"/>
            <a:ext cx="30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Bordeaux Nord -  Bast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Grand Parc - Paul Dou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Cauderan - Centre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Augustin - V. H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Jean - Capuc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ba74e"/>
                </a:solidFill>
                <a:latin typeface="Arial"/>
              </a:rPr>
              <a:t>St Michel - Nansout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1066680" y="5486400"/>
            <a:ext cx="1562400" cy="571680"/>
          </a:xfrm>
          <a:prstGeom prst="octagon">
            <a:avLst>
              <a:gd name="adj" fmla="val 29287"/>
            </a:avLst>
          </a:prstGeom>
          <a:solidFill>
            <a:srgbClr val="eba674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GV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6781680" y="5562720"/>
            <a:ext cx="1454400" cy="571320"/>
          </a:xfrm>
          <a:prstGeom prst="octagon">
            <a:avLst>
              <a:gd name="adj" fmla="val 29287"/>
            </a:avLst>
          </a:prstGeom>
          <a:solidFill>
            <a:srgbClr val="9ba74e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° D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3886200" y="5562720"/>
            <a:ext cx="1454040" cy="571320"/>
          </a:xfrm>
          <a:prstGeom prst="octagon">
            <a:avLst>
              <a:gd name="adj" fmla="val 29287"/>
            </a:avLst>
          </a:prstGeom>
          <a:solidFill>
            <a:srgbClr val="b76b93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il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° C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ACBA-6C98-4873-A8D2-6A5BCD81AD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45080" y="838080"/>
            <a:ext cx="557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81f3b"/>
                </a:solidFill>
                <a:latin typeface="Arial"/>
              </a:rPr>
              <a:t>Rechercher la contribution des services de la Ville de Borde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49000" y="4781520"/>
            <a:ext cx="4743720" cy="73332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s parcs et jardins et du Jardin Bota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'urbanisme avec le Service « projet urbain 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propreté et de la vie loc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05520" y="1371600"/>
            <a:ext cx="291168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° Groupe : cultur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4716720" y="1521000"/>
            <a:ext cx="425268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° Groupe : la fraternité à tous les âges de la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04920" y="1828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6320" y="1676520"/>
            <a:ext cx="4419360" cy="115956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s affaires cultur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s établissements cultur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développement et de l'action artistiq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programmation et de l'accueil des saisons culturelles étrangè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800600" y="1825560"/>
            <a:ext cx="4114800" cy="946440"/>
          </a:xfrm>
          <a:prstGeom prst="rect">
            <a:avLst/>
          </a:prstGeom>
          <a:noFill/>
          <a:ln w="50760">
            <a:solidFill>
              <a:srgbClr val="64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'éducation et de la 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Pôle sen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95400" y="3105000"/>
            <a:ext cx="5619600" cy="52020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° Groupe : Accueil, citoyenneté et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95400" y="3409920"/>
            <a:ext cx="5562360" cy="73332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Direction de l’accueil et de la citoyenne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u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5940720" y="3381480"/>
            <a:ext cx="2701440" cy="52020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° Groupe : jeunesse, spor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e associativ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3531240" y="5740560"/>
            <a:ext cx="42451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° Groupe : solidarité et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687840" y="6045120"/>
            <a:ext cx="3886200" cy="30708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élégation au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3914640"/>
            <a:ext cx="2590920" cy="1159560"/>
          </a:xfrm>
          <a:prstGeom prst="rect">
            <a:avLst/>
          </a:prstGeom>
          <a:noFill/>
          <a:ln w="50760">
            <a:solidFill>
              <a:srgbClr val="72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47de0"/>
                </a:solidFill>
                <a:latin typeface="Arial"/>
              </a:rPr>
              <a:t>La Direction générale de la vie sociale et de la citoyenneté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647de0"/>
                </a:solidFill>
                <a:latin typeface="Arial"/>
              </a:rPr>
              <a:t>Direction de la jeunesse, des sports et de la vie assoc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152280" y="4476600"/>
            <a:ext cx="5639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° Groupe : espaces publics, aménagement urbain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211-6E14-4B0D-9B2D-83A1043B1F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52280" y="1447920"/>
            <a:ext cx="379116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° Groupe : cultur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52280" y="1981080"/>
            <a:ext cx="5531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° Groupe : la fraternité à tous les âges de la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171360" y="2514600"/>
            <a:ext cx="68389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° Groupe : Accueil, citoyenneté et développement social urb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52280" y="3200400"/>
            <a:ext cx="696276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° Groupe : jeunesse, sports, vie associative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52280" y="4419720"/>
            <a:ext cx="553104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6° Groupe : solidarité et développement du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152280" y="3657600"/>
            <a:ext cx="6664320" cy="307080"/>
          </a:xfrm>
          <a:prstGeom prst="rect">
            <a:avLst/>
          </a:prstGeom>
          <a:solidFill>
            <a:srgbClr val="72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5° Groupe : espaces publics, aménagement urbain et lie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4420800" y="14144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32022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911160" y="874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237600" y="914400"/>
            <a:ext cx="537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Les services, les élus et les professionnels mobilis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2895480" y="4952880"/>
            <a:ext cx="4876920" cy="1859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flexion inter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 chaqu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icipation des Maires Adj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onseillers Municip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adres du niveau straté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cadres interméd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gents opérationn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logojpgBCCA"/>
          <p:cNvPicPr/>
          <p:nvPr/>
        </p:nvPicPr>
        <p:blipFill>
          <a:blip r:embed="rId1"/>
          <a:stretch/>
        </p:blipFill>
        <p:spPr>
          <a:xfrm>
            <a:off x="7238880" y="6400800"/>
            <a:ext cx="1663920" cy="293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8416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911160" y="874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152280" y="1828800"/>
            <a:ext cx="2895840" cy="1257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1° Séquence diagnostic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bulletin de santé du vivre ensemble et les grandes problé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2847960" y="914400"/>
            <a:ext cx="362916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atelier transver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6406560" y="1828800"/>
            <a:ext cx="266796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3° Séquence faisa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capacités d’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’étude de l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isabilité opérationnel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282840" y="1828800"/>
            <a:ext cx="2884320" cy="131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32022"/>
                </a:solidFill>
                <a:latin typeface="Arial"/>
              </a:rPr>
              <a:t>2° Séquence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opportunités d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 améliorer le vi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semble à partir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blé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5791320" y="152280"/>
            <a:ext cx="3124080" cy="457200"/>
          </a:xfrm>
          <a:prstGeom prst="rect">
            <a:avLst/>
          </a:prstGeom>
          <a:solidFill>
            <a:srgbClr val="aecd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 interne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cteur droit 24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1"/>
          <p:cNvSpPr/>
          <p:nvPr/>
        </p:nvSpPr>
        <p:spPr>
          <a:xfrm>
            <a:off x="762120" y="3657600"/>
            <a:ext cx="990360" cy="1371600"/>
          </a:xfrm>
          <a:custGeom>
            <a:avLst/>
            <a:gdLst>
              <a:gd name="textAreaLeft" fmla="*/ 132480 w 990360"/>
              <a:gd name="textAreaRight" fmla="*/ 857880 w 99036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2133720" y="3809880"/>
            <a:ext cx="5638680" cy="2057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OBJECTIFS DE L’ATELIER TRANSVERSAL DU 3 JUIN 2009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olider le diagnostic recueilli lors des ateliers de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 interne des servic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dentifier les principales problématiques à traiter dans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troisième projet social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229-6F40-4DF0-A4C5-92569BF5009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Diagramme 15" descr=""/>
          <p:cNvPicPr/>
          <p:nvPr/>
        </p:nvPicPr>
        <p:blipFill>
          <a:blip r:embed="rId3"/>
          <a:stretch/>
        </p:blipFill>
        <p:spPr>
          <a:xfrm>
            <a:off x="225360" y="987480"/>
            <a:ext cx="892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B5DA-916E-4CEF-857B-8AAEB55EC46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95E0-62E8-4AF0-9BE5-679F9E9E038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C746-A716-4903-8753-7312D8CE76D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2048040" y="22068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logojpgBCCA"/>
          <p:cNvPicPr/>
          <p:nvPr/>
        </p:nvPicPr>
        <p:blipFill>
          <a:blip r:embed="rId1"/>
          <a:stretch/>
        </p:blipFill>
        <p:spPr>
          <a:xfrm>
            <a:off x="7480440" y="6564240"/>
            <a:ext cx="1663560" cy="2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logobordeaux"/>
          <p:cNvPicPr/>
          <p:nvPr/>
        </p:nvPicPr>
        <p:blipFill>
          <a:blip r:embed="rId2"/>
          <a:stretch/>
        </p:blipFill>
        <p:spPr>
          <a:xfrm>
            <a:off x="0" y="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57160" y="2286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32022"/>
                </a:solidFill>
                <a:latin typeface="Arial"/>
              </a:rPr>
              <a:t>Projet Social 2009-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1332000" y="2136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necteur droit 42"/>
          <p:cNvSpPr/>
          <p:nvPr/>
        </p:nvSpPr>
        <p:spPr>
          <a:xfrm>
            <a:off x="533520" y="685800"/>
            <a:ext cx="8610480" cy="144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48"/>
          <p:cNvSpPr/>
          <p:nvPr/>
        </p:nvSpPr>
        <p:spPr>
          <a:xfrm>
            <a:off x="6019920" y="6094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32022"/>
                </a:solidFill>
                <a:latin typeface="Arial"/>
              </a:rPr>
              <a:t>culture et lie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Diagramme 10" descr=""/>
          <p:cNvPicPr/>
          <p:nvPr/>
        </p:nvPicPr>
        <p:blipFill>
          <a:blip r:embed="rId3"/>
          <a:stretch/>
        </p:blipFill>
        <p:spPr>
          <a:xfrm>
            <a:off x="378000" y="890640"/>
            <a:ext cx="85406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6:25:46Z</dcterms:created>
  <dc:creator>Hervé CARRÉ</dc:creator>
  <dc:description/>
  <dc:language>en-US</dc:language>
  <cp:lastModifiedBy>Hervé CARRÉ</cp:lastModifiedBy>
  <dcterms:modified xsi:type="dcterms:W3CDTF">2009-07-08T14:51:35Z</dcterms:modified>
  <cp:revision>17</cp:revision>
  <dc:subject/>
  <dc:title>Présentation PowerPoint</dc:title>
</cp:coreProperties>
</file>