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63F-1182-45AE-91BE-4B406B54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3BD-7A79-456D-B733-57C316B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C5B-C7BB-412C-BBD6-11BF74F1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E49-E3E4-4C10-9AE5-C009D337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978-F853-4B3F-9A4F-39F953DE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4D9-E3C5-4F24-ADBC-FEA548B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E27-1817-4A91-BBED-FB3597BE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355-46C6-4CEF-B480-21BC3BB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716-EC51-4AEB-96CD-60F407DB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384-4BDB-47B5-AD5F-B8701B1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E7E-9504-481E-B4E3-985DB64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571-D167-4691-9272-FDD46A85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BE9F-21F7-47BD-9ACE-6CD37A93A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0968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glesia"/>
                <a:ea typeface="Tahoma"/>
              </a:rPr>
              <a:t>La plus grande piscine du mo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Iglesia"/>
                <a:ea typeface="Tahoma"/>
              </a:rPr>
              <a:t>située au San Alfonso Del Mar resort au Chili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aior%20Piscina%20do%20Mundo%20(Chile)_1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5726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ior%20Piscina%20do%20Mundo%20(Chile)_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611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ior%20Piscina%20do%20Mundo%20(Chile)_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723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ior%20Piscina%20do%20Mundo%20(Chile)_4" descr=""/>
          <p:cNvPicPr/>
          <p:nvPr/>
        </p:nvPicPr>
        <p:blipFill>
          <a:blip r:embed="rId1"/>
          <a:stretch/>
        </p:blipFill>
        <p:spPr>
          <a:xfrm>
            <a:off x="228600" y="587520"/>
            <a:ext cx="853452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jor%20piscina%20san_alfonso_del_mar-1p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341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ttp://ohgizmo.com/2007/10/10/worlds-largest-outdoor-swimming-poo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838080"/>
            <a:ext cx="7256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tte piscine extérieure au San Alfonso Del Mar resort au Chili a une superficie de 8 acres, soit 80,000 mètres carrés ou 19.768 acres. Elle est d’un km de long et est reconnue par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Guinness Book of World Record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comme étant la plus grande piscine au mon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lle a une capacité d’environ 250,000 mètres cube d’eau salée ce qui représente la capacité d’environ 6,000 piscines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lle a été construite au coût d’environ $1.5 millard et son coût d’entretien annuel est de $4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7:57:29Z</dcterms:created>
  <dc:creator>Bertrand</dc:creator>
  <dc:description/>
  <dc:language>en-US</dc:language>
  <cp:lastModifiedBy>Smets</cp:lastModifiedBy>
  <dcterms:modified xsi:type="dcterms:W3CDTF">2008-09-29T19:40:35Z</dcterms:modified>
  <cp:revision>4</cp:revision>
  <dc:subject/>
  <dc:title>Présentation PowerPoint</dc:title>
</cp:coreProperties>
</file>