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840-A070-4A97-84EA-67ADDF5B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4AE-DE9C-425F-821C-7C70AF7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EA7-700B-4413-B0BE-03C2D69A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0F7-EB40-496B-91A5-F4C811D7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C89-5D52-4CE7-BEE4-DA979E0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1EE-C337-413E-AD68-2366404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161-3DFB-43A8-BACC-1114DC0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66F-0585-4EDD-91F3-23A7E42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08C-2740-4120-97F8-4F2B81B0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7D4-DCE0-4871-9992-BF31376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7AA-03FD-4786-B7E3-188B91E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A21-900F-49EA-A95A-7C9DF49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5DF-8B44-4683-AE0A-F3B92AC868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6:42:52Z</dcterms:modified>
  <cp:revision>25</cp:revision>
  <dc:subject/>
  <dc:title>슬라이드 1</dc:title>
</cp:coreProperties>
</file>