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53D-E432-4997-85D5-FBB84878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9E0-E7A5-436A-8D12-1F37C116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66B-617F-459F-90D2-9DC9433F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CE0-495F-45EE-BF79-7959ECBB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9D6-348B-44C1-9592-E017C25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2A9-FFF6-42A4-8C61-20E653C3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167-4B72-4F02-95F5-1A79120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495-6E4E-4581-93C8-ED12E425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167-B243-41D6-AFE0-65A32426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3D4-4A0E-4CDD-9081-43BD71E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7F6-006F-48EC-9293-F3208D6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594-BF78-46F7-A46E-E5E4614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ACFF-3AE5-4281-A1C7-8C69FD4B7B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6:42:52Z</dcterms:modified>
  <cp:revision>25</cp:revision>
  <dc:subject/>
  <dc:title>슬라이드 1</dc:title>
</cp:coreProperties>
</file>